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E8E02-AEB6-421F-AB47-DDC832DCA3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C5D7E-226B-421F-9C21-F41727E39C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A4120-F341-4099-9370-9EDF7B435F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14B73-C1B4-4AD7-B3F9-A24D395DC9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A1628-4085-48A1-ADA1-B662A8FE21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9F560-F207-4AC2-BE1E-ABBC738F44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57038-7477-4168-B595-B2BD317C78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DD0B3-97AB-4879-938A-35C011867E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28B89-6248-4532-8E13-5952764F81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E72F5-64A8-487C-B85C-0366DD4024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F0815-2A32-434C-AAA9-FE93DF2A3A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22985-9DAE-462E-A710-816D2104EB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9C106-8AC6-4ABE-B5DA-755832D719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02D1B-A7E6-4ED4-82F0-66A4258AFC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002E3-A342-4DC1-809C-001C0F0581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C1E7F-2141-4CC7-8409-F8A503DD89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CBE13-D147-42EA-80E4-A2372B0904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BA62A-11C8-4430-AE21-C5C416C9F5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54E3B-FE0F-4DD7-9AA4-E4F5C637F4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5D9C7-2926-49DD-8CB5-5B47372C5E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2557-D96C-457E-829F-032C8C46B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0FDF-15EF-4BD4-B4E3-9BA4CB014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7DFD-6598-47FB-BFAF-04A89BF29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D3F6-B81F-4597-A0B1-D290048E9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D213-B991-4B31-8A23-1DFE9F5F2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B5D5-9F05-44BB-8452-F2E7C0C4F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4B30-9887-48DA-B27B-17BE8F130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6BF2-0DCF-4D5E-99AA-7DEF2A7C3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39F5-80C5-4068-8598-7B0FDD904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F047-3986-4B73-BA74-6CF09B5D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6E76-B7AB-444D-B30D-67826CB4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2229-828E-428E-BD08-E64C279B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7B314-74F2-41C8-800D-8CD98988E2C8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8BBF5-515A-488E-A782-23AE634ACA9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Содержимое 5" descr="flag.png"/>
          <p:cNvPicPr/>
          <p:nvPr/>
        </p:nvPicPr>
        <p:blipFill>
          <a:blip r:embed="rId1"/>
          <a:stretch/>
        </p:blipFill>
        <p:spPr>
          <a:xfrm>
            <a:off x="500040" y="1143000"/>
            <a:ext cx="8016840" cy="474192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f2f2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715160" cy="335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953735"/>
                </a:solidFill>
                <a:latin typeface="Castellar"/>
              </a:rPr>
              <a:t>Порядок проведения аттестации педагогических работников организаций, осуществляющих образовательную деятельность</a:t>
            </a:r>
            <a:br>
              <a:rPr sz="36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9"/>
          <p:cNvSpPr/>
          <p:nvPr/>
        </p:nvSpPr>
        <p:spPr>
          <a:xfrm flipH="1">
            <a:off x="4118040" y="557208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52" name="TextBox 12"/>
          <p:cNvSpPr/>
          <p:nvPr/>
        </p:nvSpPr>
        <p:spPr>
          <a:xfrm>
            <a:off x="4367160" y="5796000"/>
            <a:ext cx="1562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53" name="Номер слайда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208DD-EFCB-4919-9311-12C40116FA8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02" name="TextBox 13"/>
          <p:cNvSpPr/>
          <p:nvPr/>
        </p:nvSpPr>
        <p:spPr>
          <a:xfrm>
            <a:off x="2081160" y="20098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03" name="TextBox 14"/>
          <p:cNvSpPr/>
          <p:nvPr/>
        </p:nvSpPr>
        <p:spPr>
          <a:xfrm>
            <a:off x="500040" y="150012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04" name="TextBox 5"/>
          <p:cNvSpPr/>
          <p:nvPr/>
        </p:nvSpPr>
        <p:spPr>
          <a:xfrm flipH="1">
            <a:off x="928080" y="214200"/>
            <a:ext cx="735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сновные положения порядка аттестации педагогических работников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05" name="Прямоугольник 6"/>
          <p:cNvSpPr/>
          <p:nvPr/>
        </p:nvSpPr>
        <p:spPr>
          <a:xfrm>
            <a:off x="785880" y="1428840"/>
            <a:ext cx="77151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овелла (п. 23).</a:t>
            </a:r>
            <a:endParaRPr b="0" lang="en-US" sz="22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ттестационные комиссии организаций дают рекомендации работодателю о возможности назначения на соответствующие должности педагогических работников лиц, не имеющих специальной подготовки или стажа работы, установленных в разделе «Требования к квалификации» раздела «Квалификационные характеристики должностей работников образования» Единого квалификационного справочника должностей руководителей, специалистов и служащих и (или) профессиональными стандартами, но обладающих достаточным практическим опытом и компетентностью, выполняющих качественно и в полном объеме возложенные на них должностные обязанности</a:t>
            </a:r>
            <a:endParaRPr b="0" lang="en-US" sz="2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928800" y="428760"/>
            <a:ext cx="7358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Основания для проведения аттестации для установления квалификационных категорий </a:t>
            </a:r>
            <a:endParaRPr b="0" lang="en-US" sz="26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785880" y="1500120"/>
            <a:ext cx="764388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ттестация педагогических работников проводится на основании их заявлений, подаваемых непосредственно в аттестационную комиссию, либо направляемых педагогическими работниками в адрес аттестационной комиссии по почте письмом с уведомлением о вручении или с уведомлением в форме электронного документа </a:t>
            </a:r>
            <a:endParaRPr b="0" lang="en-US" sz="27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1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49051-614A-440F-A4EA-09A772172BB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928800" y="428760"/>
            <a:ext cx="7358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 каких случаях может быть отказано в приеме  заявления о прохождении аттестации для установления квалификационной категории 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714240" y="2214720"/>
            <a:ext cx="76438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приеме заявления может быть отказано:</a:t>
            </a:r>
            <a:endParaRPr b="0" lang="en-US" sz="22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сли педагогический работник обращается за установлением  высшей квалификационной категории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первы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не имея первой квалификационной категории</a:t>
            </a:r>
            <a:endParaRPr b="0" lang="en-US" sz="22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сли обращение за установлением высшей квалификационной категории следует  ранее чем через два года после установления первой квалификационной категории</a:t>
            </a:r>
            <a:endParaRPr b="0" lang="en-US" sz="22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сли обращение за установлением первой либо высшей квалификационной категории следует до истечения одного года со дня принятия аттестационной комиссией решения  об отказе в их установлении </a:t>
            </a:r>
            <a:endParaRPr b="0" lang="en-US" sz="22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1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DC8C8-921D-474F-BFCD-12809EFCE80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928800" y="428760"/>
            <a:ext cx="7358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е может быть отказано в приеме заявления о прохождении аттестации для установления квалификационной категории  по причине: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785880" y="2286000"/>
            <a:ext cx="7643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ечения срока действия квалификационной категории (первой или высшей) на день подачи заявления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хождения в отпуске по уходу за ребенком до достижения им возраста трех лет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значительной продолжительности работы в организации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2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508CB-2E64-49A9-848A-9FFADD5B81F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928800" y="428760"/>
            <a:ext cx="735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ериоды и сроки  проведения аттестации педагогических работников в течение года 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24" name="TextBox 4"/>
          <p:cNvSpPr/>
          <p:nvPr/>
        </p:nvSpPr>
        <p:spPr>
          <a:xfrm>
            <a:off x="785880" y="1357200"/>
            <a:ext cx="7643880" cy="47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Конкретные периоды  аттестации в течение года не установлены</a:t>
            </a:r>
            <a:endParaRPr b="0" lang="en-US" sz="23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Заявление может быть подано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в любое время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и должно быть рассмотрено в течение 30 календарных дней  (п. 32 Порядка) </a:t>
            </a:r>
            <a:endParaRPr b="0" lang="en-US" sz="23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В течение этого же срока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осуществляется письменное уведомление педагогических работников о сроке и месте проведения их аттестации. </a:t>
            </a:r>
            <a:endParaRPr b="0" lang="en-US" sz="23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Срок проведения аттестации для каждого  устанавливается индивидуально, составляет не более 60 календарных дней, учитывает действие ранее установленных квалификационных  категорий  до принятия решения(п. 32 Порядка)</a:t>
            </a:r>
            <a:endParaRPr b="0" lang="en-US" sz="23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2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C0A04-1096-4D53-A128-D9449D90CC4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928800" y="285840"/>
            <a:ext cx="73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Доступ к квалификационным категориям  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29" name="TextBox 4"/>
          <p:cNvSpPr/>
          <p:nvPr/>
        </p:nvSpPr>
        <p:spPr>
          <a:xfrm>
            <a:off x="857160" y="1000080"/>
            <a:ext cx="764388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Высшая кв.категория впервые может быть установлена педагогическим работникам, которые имеют 1 кв. категорию и не ранее чем через 2 года после ее установления (пункт 30 Порядка) </a:t>
            </a: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Для прохождения аттестации  на 1 квалификационную категорию ограничений нет</a:t>
            </a: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Для претендующих на 1 квалификационную категорию предварительного прохождения аттестации на соответствие занимаемой должности не требуется</a:t>
            </a: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3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B3D85-A2F2-4E22-96AC-2169E75A857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928800" y="285840"/>
            <a:ext cx="735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Установление квалификационных категорий  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34" name="TextBox 4"/>
          <p:cNvSpPr/>
          <p:nvPr/>
        </p:nvSpPr>
        <p:spPr>
          <a:xfrm>
            <a:off x="857160" y="1214280"/>
            <a:ext cx="7643880" cy="42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Квалификационные категории устанавливаются на основе результатов работы педагогических работников, указанных в пунктах 36, 37</a:t>
            </a: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ценка профессиональной деятельности педагогических работников в целях установления квалификационной категории осуществляется на основе результатов их работы, но при условии, что их деятельность связана с соответствующими направлениями работы (пункт 38).</a:t>
            </a: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3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14D4F-7FC1-462D-9B04-29BFF7100A5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928800" y="214200"/>
            <a:ext cx="73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формление результатов аттестации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39" name="TextBox 4"/>
          <p:cNvSpPr/>
          <p:nvPr/>
        </p:nvSpPr>
        <p:spPr>
          <a:xfrm>
            <a:off x="857160" y="1000080"/>
            <a:ext cx="7643880" cy="50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ешение аттестационной комиссии оформляется протоколом</a:t>
            </a: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отокол подписывается председателем, заместителем председателя, секретарем и членами аттестационной комиссии, принимавшими участие в голосовании </a:t>
            </a: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ешение аттестационной комиссии вступает в силу со дня его вынесения </a:t>
            </a: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Аттестационный лист Порядком аттестации не предусмотрен</a:t>
            </a: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4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29D85-D57B-4DD5-8763-40AEF7FBA0F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43" name="TextBox 3"/>
          <p:cNvSpPr/>
          <p:nvPr/>
        </p:nvSpPr>
        <p:spPr>
          <a:xfrm>
            <a:off x="928800" y="214200"/>
            <a:ext cx="735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Распорядительные акты органов исполнительной власти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857160" y="1214280"/>
            <a:ext cx="764388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На основании решений аттестационных комиссий о результатах аттестации педагогических работников соответствующие федеральные органы исполнительной власти или уполномоченные органы государственной власти субъектов Российской Федерации издают распорядительные акты об установлении педагогическим работникам первой или высшей квалификационной категории </a:t>
            </a:r>
            <a:r>
              <a:rPr b="1" lang="ru-RU" sz="2500" spc="-1" strike="noStrike" u="sng">
                <a:solidFill>
                  <a:srgbClr val="000000"/>
                </a:solidFill>
                <a:uFillTx/>
                <a:latin typeface="Arial"/>
              </a:rPr>
              <a:t>со дня вынесения решения аттестационной комиссией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, которые размещаются на официальных сайтах указанных органов в сети «Интернет»</a:t>
            </a: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4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47843-A229-49A3-8BA8-3FE5BFEE302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147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48" name="TextBox 3"/>
          <p:cNvSpPr/>
          <p:nvPr/>
        </p:nvSpPr>
        <p:spPr>
          <a:xfrm>
            <a:off x="928800" y="214200"/>
            <a:ext cx="73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Действие результатов аттестации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49" name="TextBox 4"/>
          <p:cNvSpPr/>
          <p:nvPr/>
        </p:nvSpPr>
        <p:spPr>
          <a:xfrm>
            <a:off x="857160" y="857160"/>
            <a:ext cx="76438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валификационные категории, установленные педагогическим работникам, сохраняются до окончания срока их действия при переходе в другую организацию, в том числе расположенную в другом субъекте Российской Федерации</a:t>
            </a:r>
            <a:endParaRPr b="0" lang="en-US" sz="32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зультаты аттестации в целях установления СЗД действуют в течение 5 лет </a:t>
            </a:r>
            <a:endParaRPr b="0" lang="en-US" sz="32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5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5411D-D48B-45CF-AF35-9B5148B1F1E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56" name="TextBox 13"/>
          <p:cNvSpPr/>
          <p:nvPr/>
        </p:nvSpPr>
        <p:spPr>
          <a:xfrm>
            <a:off x="2081160" y="20098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57" name="TextBox 14"/>
          <p:cNvSpPr/>
          <p:nvPr/>
        </p:nvSpPr>
        <p:spPr>
          <a:xfrm>
            <a:off x="500040" y="150012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58" name="TextBox 5"/>
          <p:cNvSpPr/>
          <p:nvPr/>
        </p:nvSpPr>
        <p:spPr>
          <a:xfrm flipH="1">
            <a:off x="788400" y="285840"/>
            <a:ext cx="7358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Приказ Министерства образования </a:t>
            </a:r>
            <a:endParaRPr b="0" lang="en-US" sz="2600" spc="-1" strike="noStrike">
              <a:solidFill>
                <a:srgbClr val="000000"/>
              </a:solidFill>
              <a:latin typeface="Bodoni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и науки РФ от 07.04.2014 № 276</a:t>
            </a:r>
            <a:endParaRPr b="0" lang="en-US" sz="26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59" name="Прямоугольник 6"/>
          <p:cNvSpPr/>
          <p:nvPr/>
        </p:nvSpPr>
        <p:spPr>
          <a:xfrm>
            <a:off x="785880" y="1357200"/>
            <a:ext cx="77151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орядок проведения аттестации педагогических работников определяет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правила, основные задачи и принципы проведения аттестации педагогических работников образовательных организаций</a:t>
            </a:r>
            <a:endParaRPr b="0" lang="en-US" sz="23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рименяется ко всем педагогическим работникам  (кроме ППС) организаций, осуществляющих образовательную деятельность, замещающим должности, поименованные в Номенклатуре должностей (утв.пост.Правительства РФ от 8 августа 2013 г. № 678),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том числе по совместительству в той же или иной организации, а также путем совмещения должностей наряду с работой в той же организации, определенной трудовым договором </a:t>
            </a:r>
            <a:endParaRPr b="0" lang="en-US" sz="22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60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4EF22-D567-498D-8766-493B05E8D5E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28760" y="714240"/>
            <a:ext cx="814392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5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15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15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Рисунок 3" descr=""/>
          <p:cNvPicPr/>
          <p:nvPr/>
        </p:nvPicPr>
        <p:blipFill>
          <a:blip r:embed="rId1"/>
          <a:stretch/>
        </p:blipFill>
        <p:spPr>
          <a:xfrm>
            <a:off x="6715080" y="0"/>
            <a:ext cx="812880" cy="641520"/>
          </a:xfrm>
          <a:prstGeom prst="rect">
            <a:avLst/>
          </a:prstGeom>
          <a:ln w="0">
            <a:noFill/>
          </a:ln>
        </p:spPr>
      </p:pic>
      <p:sp>
        <p:nvSpPr>
          <p:cNvPr id="15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3B852-8F4D-4ACE-B332-707F066CD2A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928800" y="571680"/>
            <a:ext cx="735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Аттестация проводится в целях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(п.2 Порядка)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785880" y="1643040"/>
            <a:ext cx="7643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тверждения соответствия педагогических работников занимаемым ими должностям на основе оценки их профессиональной деятельности;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тановления квалификационной категории (по желанию) 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6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53244-D6DF-4CDF-823B-4051B37D40A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928800" y="285840"/>
            <a:ext cx="73580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сновными задачами аттестации являются:  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стимулирование целенаправленного, непрерывного повышения уровня квалификации;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определение необходимости повышения квалификации;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обеспечение  дифференциации размеров оплаты труда педагогических работников 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6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AD50-1DAE-490E-9633-DC9B0DA29CA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72" name="TextBox 13"/>
          <p:cNvSpPr/>
          <p:nvPr/>
        </p:nvSpPr>
        <p:spPr>
          <a:xfrm>
            <a:off x="2081160" y="20098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73" name="TextBox 14"/>
          <p:cNvSpPr/>
          <p:nvPr/>
        </p:nvSpPr>
        <p:spPr>
          <a:xfrm>
            <a:off x="500040" y="150012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74" name="TextBox 5"/>
          <p:cNvSpPr/>
          <p:nvPr/>
        </p:nvSpPr>
        <p:spPr>
          <a:xfrm flipH="1">
            <a:off x="928080" y="214200"/>
            <a:ext cx="735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сновные положения порядка аттестации педагогических работников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75" name="Прямоугольник 6"/>
          <p:cNvSpPr/>
          <p:nvPr/>
        </p:nvSpPr>
        <p:spPr>
          <a:xfrm>
            <a:off x="785880" y="1285920"/>
            <a:ext cx="7715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ттестация с целью подтверждения соответствия работников занимаемым ими должностям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одится один раз в пять лет  аттестационными комиссиями самостоятельно формируемыми организациями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ттестация в целях установления квалификационной категории (КК):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предусматривает установление первой или высшей КК (п. 24 Порядка)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одится по желанию педагогических работников 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ок действия  КК -  5 лет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рок действия  КК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одлению не подлежит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78" name="TextBox 13"/>
          <p:cNvSpPr/>
          <p:nvPr/>
        </p:nvSpPr>
        <p:spPr>
          <a:xfrm>
            <a:off x="2081160" y="20098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500040" y="150012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80" name="TextBox 5"/>
          <p:cNvSpPr/>
          <p:nvPr/>
        </p:nvSpPr>
        <p:spPr>
          <a:xfrm flipH="1">
            <a:off x="928080" y="214200"/>
            <a:ext cx="7358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сновные положения порядка аттестации педагогических работников с целью подтверждения соответствия работников занимаемым ими должностям (далее – на СЗД)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81" name="Прямоугольник 6"/>
          <p:cNvSpPr/>
          <p:nvPr/>
        </p:nvSpPr>
        <p:spPr>
          <a:xfrm>
            <a:off x="785880" y="1857240"/>
            <a:ext cx="771516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К формируется из числа работников организации, в которой работает педагогический работник, представителей коллегиальных органов </a:t>
            </a:r>
            <a:endParaRPr b="0" lang="en-US" sz="26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состав АК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в обязательном порядке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ходит представитель выборного органа первичной профсоюзной организации</a:t>
            </a:r>
            <a:endParaRPr b="0" lang="en-US" sz="26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ведение аттестации педагогических работников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существляется на основании представления работодателя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аттестационную комиссию </a:t>
            </a:r>
            <a:endParaRPr b="0" lang="en-US" sz="26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84" name="TextBox 13"/>
          <p:cNvSpPr/>
          <p:nvPr/>
        </p:nvSpPr>
        <p:spPr>
          <a:xfrm>
            <a:off x="2081160" y="20098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85" name="TextBox 14"/>
          <p:cNvSpPr/>
          <p:nvPr/>
        </p:nvSpPr>
        <p:spPr>
          <a:xfrm>
            <a:off x="500040" y="150012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86" name="TextBox 5"/>
          <p:cNvSpPr/>
          <p:nvPr/>
        </p:nvSpPr>
        <p:spPr>
          <a:xfrm flipH="1">
            <a:off x="928080" y="214200"/>
            <a:ext cx="7358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Основные положения порядка аттестации педагогических работников на СЗД</a:t>
            </a: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87" name="Прямоугольник 6"/>
          <p:cNvSpPr/>
          <p:nvPr/>
        </p:nvSpPr>
        <p:spPr>
          <a:xfrm>
            <a:off x="785880" y="1357200"/>
            <a:ext cx="7715160" cy="50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Аттестации </a:t>
            </a:r>
            <a:r>
              <a:rPr b="1" lang="ru-RU" sz="2500" spc="-1" strike="noStrike" u="sng">
                <a:solidFill>
                  <a:srgbClr val="000000"/>
                </a:solidFill>
                <a:uFillTx/>
                <a:latin typeface="Arial"/>
              </a:rPr>
              <a:t>не подлежат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(п. 22 Порядка):</a:t>
            </a: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педагогические работники, имеющие квалификационные категории</a:t>
            </a:r>
            <a:endParaRPr b="0" lang="en-US" sz="23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б) проработавшие в занимаемой должности </a:t>
            </a:r>
            <a:r>
              <a:rPr b="1" lang="ru-RU" sz="2300" spc="-1" strike="noStrike" u="sng">
                <a:solidFill>
                  <a:srgbClr val="000000"/>
                </a:solidFill>
                <a:uFillTx/>
                <a:latin typeface="Arial"/>
              </a:rPr>
              <a:t>менее двух лет в организации,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в которой проводится аттестация</a:t>
            </a:r>
            <a:endParaRPr b="0" lang="en-US" sz="23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) беременные женщины</a:t>
            </a:r>
            <a:endParaRPr b="0" lang="en-US" sz="23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г) женщины, находящиеся в отпуске по беременности и родам</a:t>
            </a:r>
            <a:endParaRPr b="0" lang="en-US" sz="23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д) женщины, находящиеся в отпуске по уходу за ребенком до достижения им возраста трех лет;</a:t>
            </a:r>
            <a:endParaRPr b="0" lang="en-US" sz="23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е) отсутствовавшие на рабочем месте более четырех месяцев подряд в связи с заболеванием</a:t>
            </a:r>
            <a:endParaRPr b="0" lang="en-US" sz="23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90" name="TextBox 13"/>
          <p:cNvSpPr/>
          <p:nvPr/>
        </p:nvSpPr>
        <p:spPr>
          <a:xfrm>
            <a:off x="2081160" y="20098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91" name="TextBox 14"/>
          <p:cNvSpPr/>
          <p:nvPr/>
        </p:nvSpPr>
        <p:spPr>
          <a:xfrm>
            <a:off x="500040" y="150012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92" name="TextBox 5"/>
          <p:cNvSpPr/>
          <p:nvPr/>
        </p:nvSpPr>
        <p:spPr>
          <a:xfrm flipH="1">
            <a:off x="928080" y="214200"/>
            <a:ext cx="7358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Основные положения порядка аттестации педагогических работников на СЗД</a:t>
            </a:r>
            <a:endParaRPr b="0" lang="en-US" sz="26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93" name="Прямоугольник 6"/>
          <p:cNvSpPr/>
          <p:nvPr/>
        </p:nvSpPr>
        <p:spPr>
          <a:xfrm>
            <a:off x="785880" y="1143000"/>
            <a:ext cx="77151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дагогический работник должен лично присутствовать при его аттестации на заседании аттестационной комиссии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менее чем за 30 календарных дней до дня проведения аттестации по графику работодатель знакомит педагогических работников под роспись: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распорядительным актом, содержащим список работников организации, подлежащих аттестации, график проведения аттестации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представлением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ник по желанию может представить в аттестационную комиссию организации дополнительные сведения, характеризующие его профессиональную деятельность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96" name="TextBox 13"/>
          <p:cNvSpPr/>
          <p:nvPr/>
        </p:nvSpPr>
        <p:spPr>
          <a:xfrm>
            <a:off x="2081160" y="20098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97" name="TextBox 14"/>
          <p:cNvSpPr/>
          <p:nvPr/>
        </p:nvSpPr>
        <p:spPr>
          <a:xfrm>
            <a:off x="500040" y="150012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98" name="TextBox 5"/>
          <p:cNvSpPr/>
          <p:nvPr/>
        </p:nvSpPr>
        <p:spPr>
          <a:xfrm flipH="1">
            <a:off x="928080" y="214200"/>
            <a:ext cx="735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сновные положения порядка аттестации педагогических работников на СЗД 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99" name="Прямоугольник 6"/>
          <p:cNvSpPr/>
          <p:nvPr/>
        </p:nvSpPr>
        <p:spPr>
          <a:xfrm>
            <a:off x="785880" y="1071720"/>
            <a:ext cx="7715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результатам аттестации педагогического работника аттестационная комиссия организации принимает одно из следующих решений: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ветствует занимаемой должности (указывается должность педагогического работника)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ветствует занимаемой должности (указывается должность педагогического работника) при условии получения дополнительного профессионального образования по профилю педагогической деятельности 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оответствует занимаемой должности (указывается должность педагогического работника)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09:09:20Z</dcterms:created>
  <dc:creator>Valued Acer Customer</dc:creator>
  <dc:description/>
  <dc:language>en-US</dc:language>
  <cp:lastModifiedBy>Admin</cp:lastModifiedBy>
  <dcterms:modified xsi:type="dcterms:W3CDTF">2015-02-17T09:08:25Z</dcterms:modified>
  <cp:revision>780</cp:revision>
  <dc:subject/>
  <dc:title>Квалификационные характеристики должностей работников образования</dc:title>
</cp:coreProperties>
</file>