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B81D-5B95-49D0-A1D4-942704076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2C6A-DDFE-4B44-BBE0-F97B194EA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4E53-2661-4582-A4B7-199D852B0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5970-9DCB-43F7-8F39-3A25F0E52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F74A-2ED3-4A01-9361-DEFC9ED9E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5A2A-D63C-4BD2-860D-698E06D338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2050-1620-45F1-A514-3E1FA0E9B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0AD5-3716-4F00-BB2D-6322FCE64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C72-D43E-4B68-8235-31E1D8FF4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802F-B93A-485C-BD61-B5C4CD275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6F71-2C0B-47DA-8A9D-DDAF735CE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BFF2-C88D-4625-AAF1-CF3D4C5F7C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7C99-BFCB-443B-81C7-D86CB80EA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AF62-BC45-4C13-B7ED-C32A0F38B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049F-8375-483D-9830-D8D2F31B6C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3134-80D1-4DEB-87D0-8989808F60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9EF7-01D8-4B3B-A60B-C987AA28D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F8B7-B24E-43DE-8AF3-6FC398E2F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677D-B80D-476E-873F-5FFECD725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BF02-502C-42E8-9377-7FB46EA9E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A2C-32FC-4A33-9700-16F24B96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31C-790E-4108-AD7A-C5990AFE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A61-4190-4A5F-A1EF-1C6AC9F3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06E-208B-48F1-9D00-45050299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068-1EC9-4C03-8083-4101D9EF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6D7-983A-4D69-AFF7-79A62D41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6FA-C08A-44C6-9D3B-E086641D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A4D-974D-46C6-B457-AE8D148A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8A6-5861-4A07-9AF6-C12EE87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8ED-39DB-4B0E-AB3B-8C871947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4F2-215C-4FA0-B1AF-95A8984E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17B-5C6D-4036-AB81-D537813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41F8-39E6-469F-871F-1A43A9C4C2B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2C0D-82F9-48C3-A83E-E1D2D7CC34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flag.png"/>
          <p:cNvPicPr/>
          <p:nvPr/>
        </p:nvPicPr>
        <p:blipFill>
          <a:blip r:embed="rId1"/>
          <a:stretch/>
        </p:blipFill>
        <p:spPr>
          <a:xfrm>
            <a:off x="500040" y="1143000"/>
            <a:ext cx="8016840" cy="4741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71516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Castellar"/>
              </a:rPr>
              <a:t>Порядок проведения аттестации педагогических работников организаций, осуществляющих образовательную деятельность</a:t>
            </a:r>
            <a:br>
              <a:rPr sz="36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 flipH="1">
            <a:off x="4118040" y="55720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367160" y="5796000"/>
            <a:ext cx="156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3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F1FA-D48B-46AD-B07C-5C85E0E4AD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785880" y="1428840"/>
            <a:ext cx="7715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елла (п. 23).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тестационные комиссии организаций дают рекомендации работодателю о возможности назначения на соответствующие должности педагогических работников лиц, не имеющих специальной подготовки или стажа работы, установленных в разделе «Требования к квалификации» раздела «Квалификационные характеристики должностей работников образования» Единого квалификационного справочника должностей руководителей, специалистов и служащих и (или) профессиональными стандартами, но обладающих достаточным практическим опытом и компетентностью, выполняющих качественно и в полном объеме возложенные на них должностные обязанност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928800" y="42876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снования для проведения аттестации для установления квалификационных категорий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85880" y="1500120"/>
            <a:ext cx="7643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ттестация педагогических работников проводится на основании их заявлений, подаваемых непосредственно в аттестационную комиссию, либо направляемых педагогическими работниками в адрес аттестационной комиссии по почте письмом с уведомлением о вручении или с уведомлением в форме электронного документа </a:t>
            </a:r>
            <a:endParaRPr b="0" lang="en-US" sz="27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94E3-19ED-4933-86B9-259E2F49C2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х случаях может быть отказано в приеме  заявления о прохождении аттестации для установления квалификационной категории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14240" y="221472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приеме заявления может быть отказано: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педагогический работник обращается за установлением  высшей квалификационной категор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перв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не име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высшей квалификационной категории следует  ранее чем через два года после установления первой квалификационной категории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обращение за установлением первой либо высшей квалификационной категории следует до истечения одного года со дня принятия аттестационной комиссией решения  об отказе в их установлении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34C6-EF24-433A-BA5B-9FC52CBF78E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928800" y="42876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 может быть отказано в приеме заявления о прохождении аттестации для установления квалификационной категории  по причине: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85880" y="228600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ечения срока действия квалификационной категории (первой или высшей) на день подачи заявления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я в отпуске по уходу за ребенком до достижения им возраста трех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начительной продолжительности работы в организ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03A7-506B-427C-84B9-3327285462E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928800" y="42876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ы и сроки  проведения аттестации педагогических работников в течение года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785880" y="1357200"/>
            <a:ext cx="76438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нкретные периоды  аттестации в течение года не установле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явление может быть подан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любое время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 должно быть рассмотрено в течение 30 календарных дней  (п. 32 Порядка)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 течение этого же срок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существляется письменное уведомление педагогических работников о сроке и месте проведения их аттестации. 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рок проведения аттестации для каждого  устанавливается индивидуально, составляет не более 60 календарных дней, учитывает действие ранее установленных квалификационных  категорий  до принятия решения(п. 32 Порядка)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3EDA-3F70-4CF4-9DA5-8CFC7C33A7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928800" y="285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ступ к квалификационным категориям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857160" y="10000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сшая кв.категория впервые может быть установлена педагогическим работникам, которые имеют 1 кв. категорию и не ранее чем через 2 года после ее установления (пункт 30 Порядка)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охождения аттестации  на 1 квалификационную категорию ограничений нет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претендующих на 1 квалификационную категорию предварительного прохождения аттестации на соответствие занимаемой должности не требуется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C05B-0D76-4B39-BB30-195BE5F1ED1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928800" y="2858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становление квалификационных категорий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857160" y="1214280"/>
            <a:ext cx="764388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валификационные категории устанавливаются на основе результатов работы педагогических работников, указанных в пунктах 36, 37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ценка профессиональной деятельности педагогических работников в целях установления квалификационной категории осуществляется на основе результатов их работы, но при условии, что их деятельность связана с соответствующими направлениями работы (пункт 38).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B62C-ACAE-458D-A75C-655AAD94CCD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формлен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857160" y="1000080"/>
            <a:ext cx="76438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оформляется протоколом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токол подписывается председателем, заместителем председателя, секретарем и членами аттестационной комиссии, принимавшими участие в голосовании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шение аттестационной комиссии вступает в силу со дня его вынесения 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онный лист Порядком аттестации не предусмотрен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1FC5-DBE3-4A09-9095-E07DFCCFC2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92880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порядительные акты органов исполнительной власт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857160" y="1214280"/>
            <a:ext cx="7643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основании решений аттестационных комиссий о результатах аттестации педагогических работников соответствующие федеральные органы исполнительной власти или уполномоченные органы государственной власти субъектов Российской Федерации издают распорядительные акты об установлении педагогическим работникам первой или высшей квалификационной категор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о дня вынесения решения аттестационной комисси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которые размещаются на официальных сайтах указанных органов в сети «Интернет»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CFE9-C543-4E36-9F96-B0AE720B733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928800" y="2142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йствие результатов аттестации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857160" y="857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лификационные категории, установленные педагогическим работникам, сохраняются до окончания срока их действия при переходе в другую организацию, в том числе расположенную в другом субъекте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аттестации в целях установления СЗД действуют в течение 5 лет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7BA3-4064-47EE-BEAA-0A2224EB413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8" name="TextBox 5"/>
          <p:cNvSpPr/>
          <p:nvPr/>
        </p:nvSpPr>
        <p:spPr>
          <a:xfrm flipH="1">
            <a:off x="788400" y="28584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 науки РФ от 07.04.2014 № 276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785880" y="1357200"/>
            <a:ext cx="7715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рядок проведения аттестации педагогических работников определяет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авила, основные задачи и принципы проведения аттестации педагогических работников образовательных организаций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меняется ко всем педагогическим работникам  (кроме ППС) организаций, осуществляющих образовательную деятельность, замещающим должности, поименованные в Номенклатуре должностей (утв.пост.Правительства РФ от 8 августа 2013 г. № 678)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ом числе по совместительству в той же или иной организации, а также путем совмещения должностей наряду с работой в той же организации, определенной трудовым договором </a:t>
            </a:r>
            <a:endParaRPr b="0" lang="en-US" sz="2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29F5-040C-4D20-89F1-96E05E25CD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5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6715080" y="0"/>
            <a:ext cx="812880" cy="641520"/>
          </a:xfrm>
          <a:prstGeom prst="rect">
            <a:avLst/>
          </a:prstGeom>
          <a:ln w="0">
            <a:noFill/>
          </a:ln>
        </p:spPr>
      </p:pic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2A92-DB12-47B8-959C-8BC41590E0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928800" y="5716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Аттестация проводится в целя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п.2 Порядка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785880" y="164304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верждения соответствия педагогических работников занимаемым ими должностям на основе оценки их профессиональной деятельност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я квалификационной категории (по желанию)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ABCE-32F9-486A-9D21-1CB799D9A7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928800" y="285840"/>
            <a:ext cx="7358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новными задачами аттестации являются: 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тимулирование целенаправленного, непрерывного повышения уровн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пределение необходимости повышения квалификации;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беспечение  дифференциации размеров оплаты труда педагогических работников 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5954-F1F2-4CDE-89D3-085BA8CA6F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TextBox 5"/>
          <p:cNvSpPr/>
          <p:nvPr/>
        </p:nvSpPr>
        <p:spPr>
          <a:xfrm flipH="1">
            <a:off x="928080" y="214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785880" y="12859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с целью подтверждения соответствия работников занимаемым ими должностя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один раз в пять лет  аттестационными комиссиями самостоятельно формируемыми организациям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тестация в целях установления квалификационной категории (КК)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редусматривает установление первой или высшей КК (п. 24 Поряд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по желанию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действия  КК -  5 ле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ок действия  КК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лению не подлежит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928080" y="21420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с целью подтверждения соответствия работников занимаемым ими должностям (далее – на СЗД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785880" y="1857240"/>
            <a:ext cx="7715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 формируется из числа работников организации, в которой работает педагогический работник, представителей коллегиальных органов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ав АК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 обязательном порядк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ходит представитель выборного органа первичной профсоюзной организации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дение аттестации педагогических работнико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уществляется на основании представления работодате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аттестационную комиссию 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TextBox 5"/>
          <p:cNvSpPr/>
          <p:nvPr/>
        </p:nvSpPr>
        <p:spPr>
          <a:xfrm flipH="1">
            <a:off x="928080" y="214200"/>
            <a:ext cx="7358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785880" y="1357200"/>
            <a:ext cx="77151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ттестации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не подлежат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п. 22 Порядка):</a:t>
            </a:r>
            <a:endParaRPr b="0" lang="en-US" sz="25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едагогические работники, имеющие квалификационные категории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 проработавшие в занимаемой должности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менее двух лет в организации,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в которой проводится аттестация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 беременные женщины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) женщины, находящиеся в отпуске по беременности и рода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) женщины, находящиеся в отпуске по уходу за ребенком до достижения им возраста трех лет;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е) отсутствовавшие на рабочем месте более четырех месяцев подряд в связи с заболеванием</a:t>
            </a: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2" name="TextBox 5"/>
          <p:cNvSpPr/>
          <p:nvPr/>
        </p:nvSpPr>
        <p:spPr>
          <a:xfrm flipH="1">
            <a:off x="928080" y="214200"/>
            <a:ext cx="735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</a:t>
            </a:r>
            <a:endParaRPr b="0" lang="en-US" sz="26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785880" y="1143000"/>
            <a:ext cx="7715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работник должен лично присутствовать при его аттестации на заседании аттестационной комисс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чем за 30 календарных дней до дня проведения аттестации по графику работодатель знакомит педагогических работников под роспись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аспорядительным актом, содержащим список работников организации, подлежащих аттестации, график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едставлением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ник по желанию может представить в аттестационную комиссию организации дополнительные сведения, характеризующие его профессиональную деятельность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517920" cy="36432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7"/>
          <p:cNvSpPr/>
          <p:nvPr/>
        </p:nvSpPr>
        <p:spPr>
          <a:xfrm>
            <a:off x="3071880" y="1857240"/>
            <a:ext cx="3357360" cy="3500640"/>
          </a:xfrm>
          <a:prstGeom prst="rect">
            <a:avLst/>
          </a:prstGeom>
          <a:solidFill>
            <a:srgbClr val="f2f2f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2081160" y="2009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500040" y="1500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8" name="TextBox 5"/>
          <p:cNvSpPr/>
          <p:nvPr/>
        </p:nvSpPr>
        <p:spPr>
          <a:xfrm flipH="1">
            <a:off x="928080" y="21420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положения порядка аттестации педагогических работников на СЗД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785880" y="1071720"/>
            <a:ext cx="771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зультатам аттестации педагогического работника аттестационная комиссия организации принимает одно из следующих решений: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ет занимаемой должности (указывается должность педагогического работника) при условии получения дополнительного профессионального образования по профилю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ответствует занимаемой должности (указывается должность педагогического работник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09:09:20Z</dcterms:created>
  <dc:creator>Valued Acer Customer</dc:creator>
  <dc:description/>
  <dc:language>en-US</dc:language>
  <cp:lastModifiedBy>Admin</cp:lastModifiedBy>
  <dcterms:modified xsi:type="dcterms:W3CDTF">2015-02-17T09:08:25Z</dcterms:modified>
  <cp:revision>780</cp:revision>
  <dc:subject/>
  <dc:title>Квалификационные характеристики должностей работников образования</dc:title>
</cp:coreProperties>
</file>