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EEBC-F4F0-4646-9FA4-04DF51755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C8F8-7778-419D-BDDB-24FFD41A4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4BE4-B0D3-4853-804D-2A15A81C6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29B0-9178-4B43-9C38-1F5AC65339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E7FC-6364-44D6-87C2-60A3C779B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D5C2-6259-4B62-B4CF-5A738E61C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28F0-EDD9-4010-9A29-74DC4F310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3FF-D9E0-4E78-AD73-FE0BFEF8E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39E3-13AE-4DA5-AD49-9F3592CC8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9E73-4F57-412E-A088-8AD665A09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C01F-D4B0-40D2-9648-1B2424579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1FCE-1389-4779-9853-715580CDC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7039-20C5-48FD-BF67-08650DAC4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6119-51B2-48F6-AB1E-CBB1C00E8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228A-B59E-4352-B03E-C866EA0BB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1FD9-51C0-4E2E-8E57-1AD36A996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075E-0AD6-4171-9AE6-3B2A2A440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52DC-A5A3-48DF-94B7-A2E371818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8558-1646-47F1-854F-154D06862F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5595-CF48-46D7-9B1C-724AD36E5B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5F3-E88D-4C08-8319-A76E8C6B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7E2-E76E-42FA-8B5A-BA1B2CFA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285-3C6C-4D2A-8D7B-2FBB800B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E89-D877-4E81-AED1-041F0A53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85C-38CE-4347-A64D-A24BDCDB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C52-F416-4E32-BA1B-A3DFD8E4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C1C-E60F-4A97-8684-45E37E7A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0C7-5E28-44B1-80D0-B9BDFCEE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E3F-2BA8-468C-9FE3-BB03A8D4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AC1-9DBC-4811-AD7C-29B171C5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682-DA26-4EB3-9132-98EE8987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A42-9826-4015-8608-9B17910C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2FDC-CC76-420F-9F59-B80675F459DA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2DEA-1447-4867-88CD-E7A4E5CA49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flag.png"/>
          <p:cNvPicPr/>
          <p:nvPr/>
        </p:nvPicPr>
        <p:blipFill>
          <a:blip r:embed="rId1"/>
          <a:stretch/>
        </p:blipFill>
        <p:spPr>
          <a:xfrm>
            <a:off x="500040" y="1143000"/>
            <a:ext cx="8016840" cy="4741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7151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Castellar"/>
              </a:rPr>
              <a:t>Порядок проведения аттестации педагогических работников организаций, осуществляющих образовательную деятельность</a:t>
            </a:r>
            <a:br>
              <a:rPr sz="3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 flipH="1">
            <a:off x="4118040" y="55720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367160" y="5796000"/>
            <a:ext cx="156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3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948F-DD1B-4577-AD34-F2B088F948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785880" y="1428840"/>
            <a:ext cx="7715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елла (п. 23).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тестационные комиссии организаций дают рекомендации работодателю о возможности назначения на соответствующие должности педагогических работников лиц, не имеющих специальной подготовки или стажа работы, установленных в разделе «Требования к квалификации» раздела «Квалификационные характеристики должностей работников образования» Единого квалификационного справочника должностей руководителей, специалистов и служащих и (или) профессиональными стандартами, но обладающих достаточным практическим опытом и компетентностью, выполняющих качественно и в полном объеме возложенные на них должностные обязанност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928800" y="42876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снования для проведения аттестации для установления квалификационных категорий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85880" y="15001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ттестация педагогических работников проводится на основании их заявлений, подаваемых непосредственно в аттестационную комиссию, либо направляемых педагогическими работниками в адрес аттестационной комиссии по почте письмом с уведомлением о вручении или с уведомлением в форме электронного документа </a:t>
            </a:r>
            <a:endParaRPr b="0" lang="en-US" sz="27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5D09-0A6D-4AE3-A856-D95F84AA0BF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х случаях может быть отказано в приеме  заявления о прохождении аттестации для установления 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14240" y="221472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иеме заявления может быть отказано: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едагогический работник обращается за установлением  высшей квалификационной категор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перв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е име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высшей квалификационной категории следует  ранее чем через два года после установлени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первой либо высшей квалификационной категории следует до истечения одного года со дня принятия аттестационной комиссией решения  об отказе в их установлении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A045-92E4-49BB-BCC4-61BC1E18FF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может быть отказано в приеме заявления о прохождении аттестации для установления квалификационной категории  по причине: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85880" y="228600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ечения срока действия квалификационной категории (первой или высшей) на день подачи заявления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я в отпуске по уходу за ребенком до достижения им возраста трех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начительной продолжительности работы в организ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4793-03D6-47C3-814C-31CE871497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928800" y="42876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ы и сроки  проведения аттестации педагогических работников в течение года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785880" y="1357200"/>
            <a:ext cx="76438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кретные периоды  аттестации в течение года не установле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явление может быть подан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любое время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должно быть рассмотрено в течение 30 календарных дней  (п. 32 Порядка)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течение этого же срок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существляется письменное уведомление педагогических работников о сроке и месте проведения их аттестации.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рок проведения аттестации для каждого  устанавливается индивидуально, составляет не более 60 календарных дней, учитывает действие ранее установленных квалификационных  категорий  до принятия решения(п. 32 Порядка)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1A5D-486F-4719-9E00-46C9D453F6F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928800" y="285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ступ к квалификационным категориям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10000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сшая кв.категория впервые может быть установлена педагогическим работникам, которые имеют 1 кв. категорию и не ранее чем через 2 года после ее установления (пункт 30 Порядка)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охождения аттестации  на 1 квалификационную категорию ограничений нет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етендующих на 1 квалификационную категорию предварительного прохождения аттестации на соответствие занимаемой должности не требуется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9C05-AAA5-4882-9143-7BCB15A5B3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928800" y="2858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становление квалификационных категорий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857160" y="1214280"/>
            <a:ext cx="76438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валификационные категории устанавливаются на основе результатов работы педагогических работников, указанных в пунктах 36, 37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ценка профессиональной деятельности педагогических работников в целях установления квалификационной категории осуществляется на основе результатов их работы, но при условии, что их деятельность связана с соответствующими направлениями работы (пункт 38).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7439-569A-43F4-9E08-0194426F073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формлен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857160" y="1000080"/>
            <a:ext cx="76438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оформляется протоколом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токол подписывается председателем, заместителем председателя, секретарем и членами аттестационной комиссии, принимавшими участие в голосовании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вступает в силу со дня его вынесения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онный лист Порядком аттестации не предусмотрен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0905-055E-411D-B787-7E868A31AF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92880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порядительные акты органов исполнительной власт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12142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основании решений аттестационных комиссий о результатах аттестации педагогических работников соответствующие федеральные органы исполнительной власти или уполномоченные органы государственной власти субъектов Российской Федерации издают распорядительные акты об установлении педагогическим работникам первой или высшей квалификационной категор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 дня вынесения решения аттестационной комисси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которые размещаются на официальных сайтах указанных органов в сети «Интернет»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878C-CFE8-47FB-8823-4A73F7B36F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йств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857160" y="857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лификационные категории, установленные педагогическим работникам, сохраняются до окончания срока их действия при переходе в другую организацию, в том числе расположенную в другом субъекте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аттестации в целях установления СЗД действуют в течение 5 лет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519B-52D0-45CA-BE7E-3D1AB85C02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8" name="TextBox 5"/>
          <p:cNvSpPr/>
          <p:nvPr/>
        </p:nvSpPr>
        <p:spPr>
          <a:xfrm flipH="1">
            <a:off x="788400" y="28584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 науки РФ от 07.04.2014 № 276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785880" y="1357200"/>
            <a:ext cx="7715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рядок проведения аттестации педагогических работников определяет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ла, основные задачи и принципы проведения аттестации педагогических работников образовательных организаций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меняется ко всем педагогическим работникам  (кроме ППС) организаций, осуществляющих образовательную деятельность, замещающим должности, поименованные в Номенклатуре должностей (утв.пост.Правительства РФ от 8 августа 2013 г. № 678)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ом числе по совместительству в той же или иной организации, а также путем совмещения должностей наряду с работой в той же организации, определенной трудовым договором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917B-2524-4BAE-8B83-4A140101A4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6715080" y="0"/>
            <a:ext cx="812880" cy="641520"/>
          </a:xfrm>
          <a:prstGeom prst="rect">
            <a:avLst/>
          </a:prstGeom>
          <a:ln w="0">
            <a:noFill/>
          </a:ln>
        </p:spPr>
      </p:pic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2CFE-7747-4191-945B-9A633F80415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928800" y="5716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Аттестация проводится в целя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п.2 Порядка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85880" y="164304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верждения соответствия педагогических работников занимаемым ими должностям на основе оценки их профессиональной деятельност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я квалификационной категории (по желанию)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D84D-7D13-4091-9213-204076E174A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928800" y="285840"/>
            <a:ext cx="7358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новными задачами аттестации являются: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тимулирование целенаправленного, непрерывного повышения уровн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пределение необходимости повышени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беспечение  дифференциации размеров оплаты труда педагогических работников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8420-E5BE-428E-96B4-BC8C72FD32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785880" y="12859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с целью подтверждения соответствия работников занимаемым ими должностя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один раз в пять лет  аттестационными комиссиями самостоятельно формируемыми организациям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в целях установления квалификационной категории (КК)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усматривает установление первой или высшей КК (п. 24 Поряд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о желанию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действия  КК -  5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ок действия  КК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лению не подлежи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928080" y="21420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с целью подтверждения соответствия работников занимаемым ими должностям (далее – на СЗД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785880" y="1857240"/>
            <a:ext cx="7715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 формируется из числа работников организации, в которой работает педагогический работник, представителей коллегиальных органов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ав АК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обязательном порядк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ходит представитель выборного органа первичной профсоюзной организации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дение аттестации педагогических работнико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уществляется на основании представления работодате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аттестационную комиссию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TextBox 5"/>
          <p:cNvSpPr/>
          <p:nvPr/>
        </p:nvSpPr>
        <p:spPr>
          <a:xfrm flipH="1">
            <a:off x="928080" y="214200"/>
            <a:ext cx="7358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785880" y="1357200"/>
            <a:ext cx="77151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не подлежат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п. 22 Порядка):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едагогические работники, имеющие квалификационные категории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 проработавшие в занимаемой должности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менее двух лет в организации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 которой проводится аттестация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 беременные женщи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) женщины, находящиеся в отпуске по беременности и рода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) женщины, находящиеся в отпуске по уходу за ребенком до достижения им возраста трех лет;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е) отсутствовавшие на рабочем месте более четырех месяцев подряд в связи с заболевание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2" name="TextBox 5"/>
          <p:cNvSpPr/>
          <p:nvPr/>
        </p:nvSpPr>
        <p:spPr>
          <a:xfrm flipH="1">
            <a:off x="928080" y="21420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785880" y="1143000"/>
            <a:ext cx="7715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работник должен лично присутствовать при его аттестации на заседании аттестационной комисс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чем за 30 календарных дней до дня проведения аттестации по графику работодатель знакомит педагогических работников под роспись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аспорядительным актом, содержащим список работников организации, подлежащих аттестации, график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едставление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ник по желанию может представить в аттестационную комиссию организации дополнительные сведения, характеризующие его профессиональную деятельность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8" name="TextBox 5"/>
          <p:cNvSpPr/>
          <p:nvPr/>
        </p:nvSpPr>
        <p:spPr>
          <a:xfrm flipH="1">
            <a:off x="928080" y="2142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785880" y="10717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зультатам аттестации педагогического работника аттестационная комиссия организации принимает одно из следующих решений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 при условии получения дополнительного профессионального образования по профилю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ответствует занимаемой должности (указывается должность педагогического работник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9:09:20Z</dcterms:created>
  <dc:creator>Valued Acer Customer</dc:creator>
  <dc:description/>
  <dc:language>en-US</dc:language>
  <cp:lastModifiedBy>Admin</cp:lastModifiedBy>
  <dcterms:modified xsi:type="dcterms:W3CDTF">2015-02-17T09:08:25Z</dcterms:modified>
  <cp:revision>780</cp:revision>
  <dc:subject/>
  <dc:title>Квалификационные характеристики должностей работников образования</dc:title>
</cp:coreProperties>
</file>