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2B36-F51F-4066-957F-EE0E30621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A031-53FA-4E2B-A7B6-416B8201E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2615-E3C2-4F80-ADDC-67D447DA76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D63B-44DC-4DFA-B1F9-06F97A3D9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F161-90BE-4EE8-9958-6B7E48EF1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FA75-014E-4347-88F2-80746FD31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8940-D2F2-4081-9767-48916821B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205D-72B0-4890-8FEE-41D1921F9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67A1-02CE-4A61-A560-8FC0D1EED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642A-E4F1-495F-B93C-6F682C204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D39D-2836-4AF3-BE28-D446B821DD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015A-BD89-48A6-A61B-484BCAC19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4D81-AE9C-4D8B-A91F-394788714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B77B-730A-41FA-AC15-65E4134570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EA55-0742-4898-88E7-90E626BA8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F184-89C0-4B45-BA26-F941ED133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F5B0-E587-4B19-8A5A-F269AA748C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D94B-F36D-4707-B63B-CDB6BBA38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E621-10D8-4C32-BF54-DEE2E98E8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8504-C07D-484F-9682-3EAEA6B19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9DD-15AB-4F2B-AF6E-75353FAD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F85-78A9-45CF-8411-6434F402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63F-8A1A-4029-A719-FF227A47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062-163B-4C28-8238-DE6629C5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18E-479A-4390-9975-DA212F3A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3E6-C121-4778-9D37-D0D1BD79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AFF-0566-40C9-9864-47ED37B9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F92-75E5-4234-9713-450AA976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D54-285C-421D-B185-E1BF2773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367-48CE-4800-8924-F8572F2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1FC-E8F2-4323-B545-B3982007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164-70EB-42B6-9CCD-705A35DF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7819-A8B9-459A-B637-3C411CFCBFCA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BDAA-C32C-4B5C-AE82-5A7884738AE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flag.png"/>
          <p:cNvPicPr/>
          <p:nvPr/>
        </p:nvPicPr>
        <p:blipFill>
          <a:blip r:embed="rId1"/>
          <a:stretch/>
        </p:blipFill>
        <p:spPr>
          <a:xfrm>
            <a:off x="500040" y="1143000"/>
            <a:ext cx="8016840" cy="4741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7151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Castellar"/>
              </a:rPr>
              <a:t>Порядок проведения аттестации педагогических работников организаций, осуществляющих образовательную деятельность</a:t>
            </a:r>
            <a:br>
              <a:rPr sz="3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 flipH="1">
            <a:off x="4118040" y="55720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367160" y="5796000"/>
            <a:ext cx="156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3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2891-D801-4F15-B900-9051C698D98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785880" y="1428840"/>
            <a:ext cx="7715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елла (п. 23).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тестационные комиссии организаций дают рекомендации работодателю о возможности назначения на соответствующие должности педагогических работников лиц, не имеющих специальной подготовки или стажа работы, установленных в разделе «Требования к квалификации» раздела «Квалификационные характеристики должностей работников образования» Единого квалификационного справочника должностей руководителей, специалистов и служащих и (или) профессиональными стандартами, но обладающих достаточным практическим опытом и компетентностью, выполняющих качественно и в полном объеме возложенные на них должностные обязанност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928800" y="42876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снования для проведения аттестации для установления квалификационных категорий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85880" y="15001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ттестация педагогических работников проводится на основании их заявлений, подаваемых непосредственно в аттестационную комиссию, либо направляемых педагогическими работниками в адрес аттестационной комиссии по почте письмом с уведомлением о вручении или с уведомлением в форме электронного документа </a:t>
            </a:r>
            <a:endParaRPr b="0" lang="en-US" sz="27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24B8-D78A-404E-A07A-1DBAC52B0CA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х случаях может быть отказано в приеме  заявления о прохождении аттестации для установления 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14240" y="221472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иеме заявления может быть отказано: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едагогический работник обращается за установлением  высшей квалификационной категор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перв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е име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высшей квалификационной категории следует  ранее чем через два года после установлени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первой либо высшей квалификационной категории следует до истечения одного года со дня принятия аттестационной комиссией решения  об отказе в их установлении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A1FB-DD0B-4514-AD25-71E359FE13F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может быть отказано в приеме заявления о прохождении аттестации для установления квалификационной категории  по причине: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85880" y="228600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ечения срока действия квалификационной категории (первой или высшей) на день подачи заявления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я в отпуске по уходу за ребенком до достижения им возраста трех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начительной продолжительности работы в организ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0911-1753-48E4-9CFF-C3DC6C4FB6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928800" y="42876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ы и сроки  проведения аттестации педагогических работников в течение года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785880" y="1357200"/>
            <a:ext cx="76438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кретные периоды  аттестации в течение года не установле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явление может быть подан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любое время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должно быть рассмотрено в течение 30 календарных дней  (п. 32 Порядка)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течение этого же срок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существляется письменное уведомление педагогических работников о сроке и месте проведения их аттестации.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рок проведения аттестации для каждого  устанавливается индивидуально, составляет не более 60 календарных дней, учитывает действие ранее установленных квалификационных  категорий  до принятия решения(п. 32 Порядка)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8733-441E-44B8-973E-B674E758A63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928800" y="285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ступ к квалификационным категориям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10000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сшая кв.категория впервые может быть установлена педагогическим работникам, которые имеют 1 кв. категорию и не ранее чем через 2 года после ее установления (пункт 30 Порядка)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охождения аттестации  на 1 квалификационную категорию ограничений нет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етендующих на 1 квалификационную категорию предварительного прохождения аттестации на соответствие занимаемой должности не требуется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C131-4C75-46EA-BCB5-737A752F36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928800" y="2858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становление квалификационных категорий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857160" y="1214280"/>
            <a:ext cx="76438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валификационные категории устанавливаются на основе результатов работы педагогических работников, указанных в пунктах 36, 37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ценка профессиональной деятельности педагогических работников в целях установления квалификационной категории осуществляется на основе результатов их работы, но при условии, что их деятельность связана с соответствующими направлениями работы (пункт 38).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68DF-E89E-4B2E-893D-4CC2ED65010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формлен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857160" y="1000080"/>
            <a:ext cx="76438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оформляется протоколом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токол подписывается председателем, заместителем председателя, секретарем и членами аттестационной комиссии, принимавшими участие в голосовании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вступает в силу со дня его вынесения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онный лист Порядком аттестации не предусмотрен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AA9A-39A5-4442-8039-88015691E6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92880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порядительные акты органов исполнительной власт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12142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основании решений аттестационных комиссий о результатах аттестации педагогических работников соответствующие федеральные органы исполнительной власти или уполномоченные органы государственной власти субъектов Российской Федерации издают распорядительные акты об установлении педагогическим работникам первой или высшей квалификационной категор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 дня вынесения решения аттестационной комисси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которые размещаются на официальных сайтах указанных органов в сети «Интернет»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3F97-16B6-4BD0-AE0E-89FD7C9A07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йств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857160" y="857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лификационные категории, установленные педагогическим работникам, сохраняются до окончания срока их действия при переходе в другую организацию, в том числе расположенную в другом субъекте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аттестации в целях установления СЗД действуют в течение 5 лет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A656-717B-42EC-9828-30F155712E1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8" name="TextBox 5"/>
          <p:cNvSpPr/>
          <p:nvPr/>
        </p:nvSpPr>
        <p:spPr>
          <a:xfrm flipH="1">
            <a:off x="788400" y="28584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 науки РФ от 07.04.2014 № 276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785880" y="1357200"/>
            <a:ext cx="7715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рядок проведения аттестации педагогических работников определяет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ла, основные задачи и принципы проведения аттестации педагогических работников образовательных организаций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меняется ко всем педагогическим работникам  (кроме ППС) организаций, осуществляющих образовательную деятельность, замещающим должности, поименованные в Номенклатуре должностей (утв.пост.Правительства РФ от 8 августа 2013 г. № 678)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ом числе по совместительству в той же или иной организации, а также путем совмещения должностей наряду с работой в той же организации, определенной трудовым договором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9E59-26C7-459C-94E0-EF6B24F9CA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6715080" y="0"/>
            <a:ext cx="812880" cy="641520"/>
          </a:xfrm>
          <a:prstGeom prst="rect">
            <a:avLst/>
          </a:prstGeom>
          <a:ln w="0">
            <a:noFill/>
          </a:ln>
        </p:spPr>
      </p:pic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6415-C6D6-4070-8A02-9AA9182B80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928800" y="5716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Аттестация проводится в целя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п.2 Порядка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85880" y="164304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верждения соответствия педагогических работников занимаемым ими должностям на основе оценки их профессиональной деятельност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я квалификационной категории (по желанию)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13AE-9C5C-48F9-90DF-D13D2FD9DE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928800" y="285840"/>
            <a:ext cx="7358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новными задачами аттестации являются: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тимулирование целенаправленного, непрерывного повышения уровн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пределение необходимости повышени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беспечение  дифференциации размеров оплаты труда педагогических работников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C76D-0B67-4919-A962-45023C8FD1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785880" y="12859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с целью подтверждения соответствия работников занимаемым ими должностя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один раз в пять лет  аттестационными комиссиями самостоятельно формируемыми организациям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в целях установления квалификационной категории (КК)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усматривает установление первой или высшей КК (п. 24 Поряд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о желанию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действия  КК -  5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ок действия  КК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лению не подлежи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928080" y="21420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с целью подтверждения соответствия работников занимаемым ими должностям (далее – на СЗД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785880" y="1857240"/>
            <a:ext cx="7715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 формируется из числа работников организации, в которой работает педагогический работник, представителей коллегиальных органов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ав АК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обязательном порядк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ходит представитель выборного органа первичной профсоюзной организации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дение аттестации педагогических работнико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уществляется на основании представления работодате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аттестационную комиссию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TextBox 5"/>
          <p:cNvSpPr/>
          <p:nvPr/>
        </p:nvSpPr>
        <p:spPr>
          <a:xfrm flipH="1">
            <a:off x="928080" y="214200"/>
            <a:ext cx="7358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785880" y="1357200"/>
            <a:ext cx="77151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не подлежат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п. 22 Порядка):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едагогические работники, имеющие квалификационные категории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 проработавшие в занимаемой должности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менее двух лет в организации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 которой проводится аттестация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 беременные женщи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) женщины, находящиеся в отпуске по беременности и рода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) женщины, находящиеся в отпуске по уходу за ребенком до достижения им возраста трех лет;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е) отсутствовавшие на рабочем месте более четырех месяцев подряд в связи с заболевание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2" name="TextBox 5"/>
          <p:cNvSpPr/>
          <p:nvPr/>
        </p:nvSpPr>
        <p:spPr>
          <a:xfrm flipH="1">
            <a:off x="928080" y="21420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785880" y="1143000"/>
            <a:ext cx="7715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работник должен лично присутствовать при его аттестации на заседании аттестационной комисс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чем за 30 календарных дней до дня проведения аттестации по графику работодатель знакомит педагогических работников под роспись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аспорядительным актом, содержащим список работников организации, подлежащих аттестации, график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едставление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ник по желанию может представить в аттестационную комиссию организации дополнительные сведения, характеризующие его профессиональную деятельность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8" name="TextBox 5"/>
          <p:cNvSpPr/>
          <p:nvPr/>
        </p:nvSpPr>
        <p:spPr>
          <a:xfrm flipH="1">
            <a:off x="928080" y="2142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785880" y="10717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зультатам аттестации педагогического работника аттестационная комиссия организации принимает одно из следующих решений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 при условии получения дополнительного профессионального образования по профилю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ответствует занимаемой должности (указывается должность педагогического работник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9:09:20Z</dcterms:created>
  <dc:creator>Valued Acer Customer</dc:creator>
  <dc:description/>
  <dc:language>en-US</dc:language>
  <cp:lastModifiedBy>Admin</cp:lastModifiedBy>
  <dcterms:modified xsi:type="dcterms:W3CDTF">2015-02-17T09:08:25Z</dcterms:modified>
  <cp:revision>780</cp:revision>
  <dc:subject/>
  <dc:title>Квалификационные характеристики должностей работников образования</dc:title>
</cp:coreProperties>
</file>