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B1D4A-AB16-4A89-B303-E26E7A8A6B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50EFF-D857-4F5A-B2F3-DBC781DFC8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B8F3B-CFD2-44EF-B28A-4CDD10A9F1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31259-0018-4BB3-9F14-FC7BB1163A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B2274-842D-44D4-B060-4FECC8D15A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4733F-D8BE-4A38-BB79-D6A080AB9E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4B235-AD88-4A61-B07B-2AE5C69D9E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DC069-F5D1-4F8F-9D68-70684BB749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A7B4D-9437-4B94-B358-1DA31AADE5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FCCA4-C51D-4E90-AF48-246D0D2623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1B070-799E-4341-B209-74F46CCA88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F4EE8-06B2-4595-98D4-8CEAA8C118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5C70B-ABF5-4859-890D-0A387A301B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B5865-1B3D-4FC0-BF73-57A7B2169B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E1761-6593-4428-B716-8EE996701D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83F32-9433-45E4-8DEE-037357C611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33E2B-0FFF-4D7F-8B7E-B9098DD334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E33EC-F40A-4C10-9C0F-8F7ED5611E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547FE-4457-449B-BF30-CE53BDD3A2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CAD86-1677-4492-AB20-0874E74A32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17CB-E827-42FB-857D-9192CC194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9DCB-B422-49B3-81AD-1B8F5B75C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60EE-9334-4713-A926-1EB6065D5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D26F-22D0-4433-BD76-37FAB6A53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5F06-6B39-401D-892F-CFEED2ECF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5E18-32F8-414B-B950-F7058B437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A715-73B0-4BD7-BBAE-B25AA26F6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8A9C-C3A1-4011-9C2D-A4F5F4915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F270-D3B3-47EF-A966-0CCA0E06C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1B4D-AD48-4226-881A-5FFB342B3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9123-EEB5-427A-92D2-3597E742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C094-8035-4A85-B75B-7E89C4180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4C93C-79FB-487D-BFFF-4DF23C31CA5E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8F052-E57A-4C20-A6DA-3A39162A725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Содержимое 5" descr="flag.png"/>
          <p:cNvPicPr/>
          <p:nvPr/>
        </p:nvPicPr>
        <p:blipFill>
          <a:blip r:embed="rId1"/>
          <a:stretch/>
        </p:blipFill>
        <p:spPr>
          <a:xfrm>
            <a:off x="500040" y="1143000"/>
            <a:ext cx="8016840" cy="474192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2f2f2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7715160" cy="335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953735"/>
                </a:solidFill>
                <a:latin typeface="Castellar"/>
              </a:rPr>
              <a:t>Порядок проведения аттестации педагогических работников организаций, осуществляющих образовательную деятельность</a:t>
            </a:r>
            <a:br>
              <a:rPr sz="36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9"/>
          <p:cNvSpPr/>
          <p:nvPr/>
        </p:nvSpPr>
        <p:spPr>
          <a:xfrm flipH="1">
            <a:off x="4118040" y="557208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52" name="TextBox 12"/>
          <p:cNvSpPr/>
          <p:nvPr/>
        </p:nvSpPr>
        <p:spPr>
          <a:xfrm>
            <a:off x="4367160" y="5796000"/>
            <a:ext cx="15620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53" name="Номер слайда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D9926-03AC-4F32-B791-31F75F0B14B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Рисунок 3" descr=""/>
          <p:cNvPicPr/>
          <p:nvPr/>
        </p:nvPicPr>
        <p:blipFill>
          <a:blip r:embed="rId1"/>
          <a:stretch/>
        </p:blipFill>
        <p:spPr>
          <a:xfrm>
            <a:off x="3000240" y="1785960"/>
            <a:ext cx="3517920" cy="364320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7"/>
          <p:cNvSpPr/>
          <p:nvPr/>
        </p:nvSpPr>
        <p:spPr>
          <a:xfrm>
            <a:off x="3071880" y="1857240"/>
            <a:ext cx="3357360" cy="3500640"/>
          </a:xfrm>
          <a:prstGeom prst="rect">
            <a:avLst/>
          </a:prstGeom>
          <a:solidFill>
            <a:srgbClr val="f2f2f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02" name="TextBox 13"/>
          <p:cNvSpPr/>
          <p:nvPr/>
        </p:nvSpPr>
        <p:spPr>
          <a:xfrm>
            <a:off x="2081160" y="200988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03" name="TextBox 14"/>
          <p:cNvSpPr/>
          <p:nvPr/>
        </p:nvSpPr>
        <p:spPr>
          <a:xfrm>
            <a:off x="500040" y="1500120"/>
            <a:ext cx="81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04" name="TextBox 5"/>
          <p:cNvSpPr/>
          <p:nvPr/>
        </p:nvSpPr>
        <p:spPr>
          <a:xfrm flipH="1">
            <a:off x="928080" y="214200"/>
            <a:ext cx="735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сновные положения порядка аттестации педагогических работников</a:t>
            </a: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05" name="Прямоугольник 6"/>
          <p:cNvSpPr/>
          <p:nvPr/>
        </p:nvSpPr>
        <p:spPr>
          <a:xfrm>
            <a:off x="785880" y="1428840"/>
            <a:ext cx="77151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овелла (п. 23).</a:t>
            </a:r>
            <a:endParaRPr b="0" lang="en-US" sz="22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ттестационные комиссии организаций дают рекомендации работодателю о возможности назначения на соответствующие должности педагогических работников лиц, не имеющих специальной подготовки или стажа работы, установленных в разделе «Требования к квалификации» раздела «Квалификационные характеристики должностей работников образования» Единого квалификационного справочника должностей руководителей, специалистов и служащих и (или) профессиональными стандартами, но обладающих достаточным практическим опытом и компетентностью, выполняющих качественно и в полном объеме возложенные на них должностные обязанности</a:t>
            </a:r>
            <a:endParaRPr b="0" lang="en-US" sz="2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Рисунок 3" descr=""/>
          <p:cNvPicPr/>
          <p:nvPr/>
        </p:nvPicPr>
        <p:blipFill>
          <a:blip r:embed="rId1"/>
          <a:stretch/>
        </p:blipFill>
        <p:spPr>
          <a:xfrm>
            <a:off x="3000240" y="1785960"/>
            <a:ext cx="3517920" cy="364320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7"/>
          <p:cNvSpPr/>
          <p:nvPr/>
        </p:nvSpPr>
        <p:spPr>
          <a:xfrm>
            <a:off x="3071880" y="1857240"/>
            <a:ext cx="3357360" cy="3500640"/>
          </a:xfrm>
          <a:prstGeom prst="rect">
            <a:avLst/>
          </a:prstGeom>
          <a:solidFill>
            <a:srgbClr val="f2f2f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928800" y="428760"/>
            <a:ext cx="7358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Основания для проведения аттестации для установления квалификационных категорий </a:t>
            </a:r>
            <a:endParaRPr b="0" lang="en-US" sz="26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09" name="TextBox 4"/>
          <p:cNvSpPr/>
          <p:nvPr/>
        </p:nvSpPr>
        <p:spPr>
          <a:xfrm>
            <a:off x="785880" y="1500120"/>
            <a:ext cx="764388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ттестация педагогических работников проводится на основании их заявлений, подаваемых непосредственно в аттестационную комиссию, либо направляемых педагогическими работниками в адрес аттестационной комиссии по почте письмом с уведомлением о вручении или с уведомлением в форме электронного документа </a:t>
            </a:r>
            <a:endParaRPr b="0" lang="en-US" sz="27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1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D214A-9E29-4117-B2E7-94A86249C12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Рисунок 3" descr=""/>
          <p:cNvPicPr/>
          <p:nvPr/>
        </p:nvPicPr>
        <p:blipFill>
          <a:blip r:embed="rId1"/>
          <a:stretch/>
        </p:blipFill>
        <p:spPr>
          <a:xfrm>
            <a:off x="3000240" y="1785960"/>
            <a:ext cx="3517920" cy="364320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7"/>
          <p:cNvSpPr/>
          <p:nvPr/>
        </p:nvSpPr>
        <p:spPr>
          <a:xfrm>
            <a:off x="3071880" y="1857240"/>
            <a:ext cx="3357360" cy="3500640"/>
          </a:xfrm>
          <a:prstGeom prst="rect">
            <a:avLst/>
          </a:prstGeom>
          <a:solidFill>
            <a:srgbClr val="f2f2f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13" name="TextBox 3"/>
          <p:cNvSpPr/>
          <p:nvPr/>
        </p:nvSpPr>
        <p:spPr>
          <a:xfrm>
            <a:off x="928800" y="428760"/>
            <a:ext cx="7358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 каких случаях может быть отказано в приеме  заявления о прохождении аттестации для установления квалификационной категории </a:t>
            </a: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14" name="TextBox 4"/>
          <p:cNvSpPr/>
          <p:nvPr/>
        </p:nvSpPr>
        <p:spPr>
          <a:xfrm>
            <a:off x="714240" y="2214720"/>
            <a:ext cx="76438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 приеме заявления может быть отказано:</a:t>
            </a:r>
            <a:endParaRPr b="0" lang="en-US" sz="22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если педагогический работник обращается за установлением  высшей квалификационной категории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первы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не имея первой квалификационной категории</a:t>
            </a:r>
            <a:endParaRPr b="0" lang="en-US" sz="22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если обращение за установлением высшей квалификационной категории следует  ранее чем через два года после установления первой квалификационной категории</a:t>
            </a:r>
            <a:endParaRPr b="0" lang="en-US" sz="22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если обращение за установлением первой либо высшей квалификационной категории следует до истечения одного года со дня принятия аттестационной комиссией решения  об отказе в их установлении </a:t>
            </a:r>
            <a:endParaRPr b="0" lang="en-US" sz="22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1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C06CC-3B69-496E-BA39-B89BCB7373F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Рисунок 3" descr=""/>
          <p:cNvPicPr/>
          <p:nvPr/>
        </p:nvPicPr>
        <p:blipFill>
          <a:blip r:embed="rId1"/>
          <a:stretch/>
        </p:blipFill>
        <p:spPr>
          <a:xfrm>
            <a:off x="3000240" y="1785960"/>
            <a:ext cx="3517920" cy="364320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оугольник 7"/>
          <p:cNvSpPr/>
          <p:nvPr/>
        </p:nvSpPr>
        <p:spPr>
          <a:xfrm>
            <a:off x="3071880" y="1857240"/>
            <a:ext cx="3357360" cy="3500640"/>
          </a:xfrm>
          <a:prstGeom prst="rect">
            <a:avLst/>
          </a:prstGeom>
          <a:solidFill>
            <a:srgbClr val="f2f2f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18" name="TextBox 3"/>
          <p:cNvSpPr/>
          <p:nvPr/>
        </p:nvSpPr>
        <p:spPr>
          <a:xfrm>
            <a:off x="928800" y="428760"/>
            <a:ext cx="7358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е может быть отказано в приеме заявления о прохождении аттестации для установления квалификационной категории  по причине:</a:t>
            </a: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19" name="TextBox 4"/>
          <p:cNvSpPr/>
          <p:nvPr/>
        </p:nvSpPr>
        <p:spPr>
          <a:xfrm>
            <a:off x="785880" y="2286000"/>
            <a:ext cx="7643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ечения срока действия квалификационной категории (первой или высшей) на день подачи заявления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хождения в отпуске по уходу за ребенком до достижения им возраста трех лет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значительной продолжительности работы в организации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2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20146-ECFC-4694-853A-EDB1E043EE5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Рисунок 3" descr=""/>
          <p:cNvPicPr/>
          <p:nvPr/>
        </p:nvPicPr>
        <p:blipFill>
          <a:blip r:embed="rId1"/>
          <a:stretch/>
        </p:blipFill>
        <p:spPr>
          <a:xfrm>
            <a:off x="3000240" y="1785960"/>
            <a:ext cx="3517920" cy="364320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7"/>
          <p:cNvSpPr/>
          <p:nvPr/>
        </p:nvSpPr>
        <p:spPr>
          <a:xfrm>
            <a:off x="3071880" y="1857240"/>
            <a:ext cx="3357360" cy="3500640"/>
          </a:xfrm>
          <a:prstGeom prst="rect">
            <a:avLst/>
          </a:prstGeom>
          <a:solidFill>
            <a:srgbClr val="f2f2f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928800" y="428760"/>
            <a:ext cx="735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ериоды и сроки  проведения аттестации педагогических работников в течение года </a:t>
            </a: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24" name="TextBox 4"/>
          <p:cNvSpPr/>
          <p:nvPr/>
        </p:nvSpPr>
        <p:spPr>
          <a:xfrm>
            <a:off x="785880" y="1357200"/>
            <a:ext cx="7643880" cy="47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Конкретные периоды  аттестации в течение года не установлены</a:t>
            </a:r>
            <a:endParaRPr b="0" lang="en-US" sz="2300" spc="-1" strike="noStrike">
              <a:solidFill>
                <a:srgbClr val="000000"/>
              </a:solidFill>
              <a:latin typeface="Bodoni MT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Заявление может быть подано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в любое время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и должно быть рассмотрено в течение 30 календарных дней  (п. 32 Порядка) </a:t>
            </a:r>
            <a:endParaRPr b="0" lang="en-US" sz="2300" spc="-1" strike="noStrike">
              <a:solidFill>
                <a:srgbClr val="000000"/>
              </a:solidFill>
              <a:latin typeface="Bodoni MT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В течение этого же срока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осуществляется письменное уведомление педагогических работников о сроке и месте проведения их аттестации. </a:t>
            </a:r>
            <a:endParaRPr b="0" lang="en-US" sz="2300" spc="-1" strike="noStrike">
              <a:solidFill>
                <a:srgbClr val="000000"/>
              </a:solidFill>
              <a:latin typeface="Bodoni MT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Срок проведения аттестации для каждого  устанавливается индивидуально, составляет не более 60 календарных дней, учитывает действие ранее установленных квалификационных  категорий  до принятия решения(п. 32 Порядка)</a:t>
            </a:r>
            <a:endParaRPr b="0" lang="en-US" sz="23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2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FF5E9-BD3C-4F47-85EE-54671136560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Рисунок 3" descr=""/>
          <p:cNvPicPr/>
          <p:nvPr/>
        </p:nvPicPr>
        <p:blipFill>
          <a:blip r:embed="rId1"/>
          <a:stretch/>
        </p:blipFill>
        <p:spPr>
          <a:xfrm>
            <a:off x="3000240" y="1785960"/>
            <a:ext cx="3517920" cy="364320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7"/>
          <p:cNvSpPr/>
          <p:nvPr/>
        </p:nvSpPr>
        <p:spPr>
          <a:xfrm>
            <a:off x="3071880" y="1857240"/>
            <a:ext cx="3357360" cy="3500640"/>
          </a:xfrm>
          <a:prstGeom prst="rect">
            <a:avLst/>
          </a:prstGeom>
          <a:solidFill>
            <a:srgbClr val="f2f2f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28" name="TextBox 3"/>
          <p:cNvSpPr/>
          <p:nvPr/>
        </p:nvSpPr>
        <p:spPr>
          <a:xfrm>
            <a:off x="928800" y="285840"/>
            <a:ext cx="735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Доступ к квалификационным категориям  </a:t>
            </a: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29" name="TextBox 4"/>
          <p:cNvSpPr/>
          <p:nvPr/>
        </p:nvSpPr>
        <p:spPr>
          <a:xfrm>
            <a:off x="857160" y="1000080"/>
            <a:ext cx="764388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Высшая кв.категория впервые может быть установлена педагогическим работникам, которые имеют 1 кв. категорию и не ранее чем через 2 года после ее установления (пункт 30 Порядка) </a:t>
            </a:r>
            <a:endParaRPr b="0" lang="en-US" sz="2500" spc="-1" strike="noStrike">
              <a:solidFill>
                <a:srgbClr val="000000"/>
              </a:solidFill>
              <a:latin typeface="Bodoni MT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Для прохождения аттестации  на 1 квалификационную категорию ограничений нет</a:t>
            </a:r>
            <a:endParaRPr b="0" lang="en-US" sz="2500" spc="-1" strike="noStrike">
              <a:solidFill>
                <a:srgbClr val="000000"/>
              </a:solidFill>
              <a:latin typeface="Bodoni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Bodoni MT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Для претендующих на 1 квалификационную категорию предварительного прохождения аттестации на соответствие занимаемой должности не требуется</a:t>
            </a:r>
            <a:endParaRPr b="0" lang="en-US" sz="25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3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8AAD0-1C54-41E1-B78B-C09F03E0BFD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Рисунок 3" descr=""/>
          <p:cNvPicPr/>
          <p:nvPr/>
        </p:nvPicPr>
        <p:blipFill>
          <a:blip r:embed="rId1"/>
          <a:stretch/>
        </p:blipFill>
        <p:spPr>
          <a:xfrm>
            <a:off x="3000240" y="1785960"/>
            <a:ext cx="3517920" cy="3643200"/>
          </a:xfrm>
          <a:prstGeom prst="rect">
            <a:avLst/>
          </a:prstGeom>
          <a:ln w="0">
            <a:noFill/>
          </a:ln>
        </p:spPr>
      </p:pic>
      <p:sp>
        <p:nvSpPr>
          <p:cNvPr id="132" name="Прямоугольник 7"/>
          <p:cNvSpPr/>
          <p:nvPr/>
        </p:nvSpPr>
        <p:spPr>
          <a:xfrm>
            <a:off x="3071880" y="1857240"/>
            <a:ext cx="3357360" cy="3500640"/>
          </a:xfrm>
          <a:prstGeom prst="rect">
            <a:avLst/>
          </a:prstGeom>
          <a:solidFill>
            <a:srgbClr val="f2f2f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928800" y="285840"/>
            <a:ext cx="735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Установление квалификационных категорий  </a:t>
            </a: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34" name="TextBox 4"/>
          <p:cNvSpPr/>
          <p:nvPr/>
        </p:nvSpPr>
        <p:spPr>
          <a:xfrm>
            <a:off x="857160" y="1214280"/>
            <a:ext cx="7643880" cy="42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Квалификационные категории устанавливаются на основе результатов работы педагогических работников, указанных в пунктах 36, 37</a:t>
            </a:r>
            <a:endParaRPr b="0" lang="en-US" sz="25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ценка профессиональной деятельности педагогических работников в целях установления квалификационной категории осуществляется на основе результатов их работы, но при условии, что их деятельность связана с соответствующими направлениями работы (пункт 38).</a:t>
            </a:r>
            <a:endParaRPr b="0" lang="en-US" sz="25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3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65202-E5C0-488C-89DB-AF7B86B832F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Рисунок 3" descr=""/>
          <p:cNvPicPr/>
          <p:nvPr/>
        </p:nvPicPr>
        <p:blipFill>
          <a:blip r:embed="rId1"/>
          <a:stretch/>
        </p:blipFill>
        <p:spPr>
          <a:xfrm>
            <a:off x="3000240" y="1785960"/>
            <a:ext cx="3517920" cy="3643200"/>
          </a:xfrm>
          <a:prstGeom prst="rect">
            <a:avLst/>
          </a:prstGeom>
          <a:ln w="0">
            <a:noFill/>
          </a:ln>
        </p:spPr>
      </p:pic>
      <p:sp>
        <p:nvSpPr>
          <p:cNvPr id="137" name="Прямоугольник 7"/>
          <p:cNvSpPr/>
          <p:nvPr/>
        </p:nvSpPr>
        <p:spPr>
          <a:xfrm>
            <a:off x="3071880" y="1857240"/>
            <a:ext cx="3357360" cy="3500640"/>
          </a:xfrm>
          <a:prstGeom prst="rect">
            <a:avLst/>
          </a:prstGeom>
          <a:solidFill>
            <a:srgbClr val="f2f2f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38" name="TextBox 3"/>
          <p:cNvSpPr/>
          <p:nvPr/>
        </p:nvSpPr>
        <p:spPr>
          <a:xfrm>
            <a:off x="928800" y="214200"/>
            <a:ext cx="735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Оформление результатов аттестации</a:t>
            </a: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39" name="TextBox 4"/>
          <p:cNvSpPr/>
          <p:nvPr/>
        </p:nvSpPr>
        <p:spPr>
          <a:xfrm>
            <a:off x="857160" y="1000080"/>
            <a:ext cx="7643880" cy="50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Решение аттестационной комиссии оформляется протоколом</a:t>
            </a:r>
            <a:endParaRPr b="0" lang="en-US" sz="25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отокол подписывается председателем, заместителем председателя, секретарем и членами аттестационной комиссии, принимавшими участие в голосовании </a:t>
            </a:r>
            <a:endParaRPr b="0" lang="en-US" sz="25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Решение аттестационной комиссии вступает в силу со дня его вынесения </a:t>
            </a:r>
            <a:endParaRPr b="0" lang="en-US" sz="25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Аттестационный лист Порядком аттестации не предусмотрен</a:t>
            </a:r>
            <a:endParaRPr b="0" lang="en-US" sz="25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4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2BB76-E49C-4F00-928E-30CDFDD5D4D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Рисунок 3" descr=""/>
          <p:cNvPicPr/>
          <p:nvPr/>
        </p:nvPicPr>
        <p:blipFill>
          <a:blip r:embed="rId1"/>
          <a:stretch/>
        </p:blipFill>
        <p:spPr>
          <a:xfrm>
            <a:off x="3000240" y="1785960"/>
            <a:ext cx="3517920" cy="3643200"/>
          </a:xfrm>
          <a:prstGeom prst="rect">
            <a:avLst/>
          </a:prstGeom>
          <a:ln w="0">
            <a:noFill/>
          </a:ln>
        </p:spPr>
      </p:pic>
      <p:sp>
        <p:nvSpPr>
          <p:cNvPr id="142" name="Прямоугольник 7"/>
          <p:cNvSpPr/>
          <p:nvPr/>
        </p:nvSpPr>
        <p:spPr>
          <a:xfrm>
            <a:off x="3071880" y="1857240"/>
            <a:ext cx="3357360" cy="3500640"/>
          </a:xfrm>
          <a:prstGeom prst="rect">
            <a:avLst/>
          </a:prstGeom>
          <a:solidFill>
            <a:srgbClr val="f2f2f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43" name="TextBox 3"/>
          <p:cNvSpPr/>
          <p:nvPr/>
        </p:nvSpPr>
        <p:spPr>
          <a:xfrm>
            <a:off x="928800" y="214200"/>
            <a:ext cx="735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Распорядительные акты органов исполнительной власти</a:t>
            </a: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857160" y="1214280"/>
            <a:ext cx="764388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На основании решений аттестационных комиссий о результатах аттестации педагогических работников соответствующие федеральные органы исполнительной власти или уполномоченные органы государственной власти субъектов Российской Федерации издают распорядительные акты об установлении педагогическим работникам первой или высшей квалификационной категории </a:t>
            </a:r>
            <a:r>
              <a:rPr b="1" lang="ru-RU" sz="2500" spc="-1" strike="noStrike" u="sng">
                <a:solidFill>
                  <a:srgbClr val="000000"/>
                </a:solidFill>
                <a:uFillTx/>
                <a:latin typeface="Arial"/>
              </a:rPr>
              <a:t>со дня вынесения решения аттестационной комиссией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, которые размещаются на официальных сайтах указанных органов в сети «Интернет»</a:t>
            </a:r>
            <a:endParaRPr b="0" lang="en-US" sz="25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4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DE31C-BFB2-41AA-BC6E-C1769E3053D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Рисунок 3" descr=""/>
          <p:cNvPicPr/>
          <p:nvPr/>
        </p:nvPicPr>
        <p:blipFill>
          <a:blip r:embed="rId1"/>
          <a:stretch/>
        </p:blipFill>
        <p:spPr>
          <a:xfrm>
            <a:off x="3000240" y="1785960"/>
            <a:ext cx="3517920" cy="3643200"/>
          </a:xfrm>
          <a:prstGeom prst="rect">
            <a:avLst/>
          </a:prstGeom>
          <a:ln w="0">
            <a:noFill/>
          </a:ln>
        </p:spPr>
      </p:pic>
      <p:sp>
        <p:nvSpPr>
          <p:cNvPr id="147" name="Прямоугольник 7"/>
          <p:cNvSpPr/>
          <p:nvPr/>
        </p:nvSpPr>
        <p:spPr>
          <a:xfrm>
            <a:off x="3071880" y="1857240"/>
            <a:ext cx="3357360" cy="3500640"/>
          </a:xfrm>
          <a:prstGeom prst="rect">
            <a:avLst/>
          </a:prstGeom>
          <a:solidFill>
            <a:srgbClr val="f2f2f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48" name="TextBox 3"/>
          <p:cNvSpPr/>
          <p:nvPr/>
        </p:nvSpPr>
        <p:spPr>
          <a:xfrm>
            <a:off x="928800" y="214200"/>
            <a:ext cx="735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Действие результатов аттестации</a:t>
            </a: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49" name="TextBox 4"/>
          <p:cNvSpPr/>
          <p:nvPr/>
        </p:nvSpPr>
        <p:spPr>
          <a:xfrm>
            <a:off x="857160" y="857160"/>
            <a:ext cx="76438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валификационные категории, установленные педагогическим работникам, сохраняются до окончания срока их действия при переходе в другую организацию, в том числе расположенную в другом субъекте Российской Федерации</a:t>
            </a:r>
            <a:endParaRPr b="0" lang="en-US" sz="32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зультаты аттестации в целях установления СЗД действуют в течение 5 лет </a:t>
            </a:r>
            <a:endParaRPr b="0" lang="en-US" sz="32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5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926AC-DEDB-4BAF-AA0F-D6F186208BB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3" descr=""/>
          <p:cNvPicPr/>
          <p:nvPr/>
        </p:nvPicPr>
        <p:blipFill>
          <a:blip r:embed="rId1"/>
          <a:stretch/>
        </p:blipFill>
        <p:spPr>
          <a:xfrm>
            <a:off x="3000240" y="1785960"/>
            <a:ext cx="3517920" cy="364320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7"/>
          <p:cNvSpPr/>
          <p:nvPr/>
        </p:nvSpPr>
        <p:spPr>
          <a:xfrm>
            <a:off x="3071880" y="1857240"/>
            <a:ext cx="3357360" cy="3500640"/>
          </a:xfrm>
          <a:prstGeom prst="rect">
            <a:avLst/>
          </a:prstGeom>
          <a:solidFill>
            <a:srgbClr val="f2f2f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56" name="TextBox 13"/>
          <p:cNvSpPr/>
          <p:nvPr/>
        </p:nvSpPr>
        <p:spPr>
          <a:xfrm>
            <a:off x="2081160" y="200988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57" name="TextBox 14"/>
          <p:cNvSpPr/>
          <p:nvPr/>
        </p:nvSpPr>
        <p:spPr>
          <a:xfrm>
            <a:off x="500040" y="1500120"/>
            <a:ext cx="81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58" name="TextBox 5"/>
          <p:cNvSpPr/>
          <p:nvPr/>
        </p:nvSpPr>
        <p:spPr>
          <a:xfrm flipH="1">
            <a:off x="788400" y="285840"/>
            <a:ext cx="7358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Приказ Министерства образования </a:t>
            </a:r>
            <a:endParaRPr b="0" lang="en-US" sz="2600" spc="-1" strike="noStrike">
              <a:solidFill>
                <a:srgbClr val="000000"/>
              </a:solidFill>
              <a:latin typeface="Bodoni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и науки РФ от 07.04.2014 № 276</a:t>
            </a:r>
            <a:endParaRPr b="0" lang="en-US" sz="26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59" name="Прямоугольник 6"/>
          <p:cNvSpPr/>
          <p:nvPr/>
        </p:nvSpPr>
        <p:spPr>
          <a:xfrm>
            <a:off x="785880" y="1357200"/>
            <a:ext cx="771516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Порядок проведения аттестации педагогических работников определяет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правила, основные задачи и принципы проведения аттестации педагогических работников образовательных организаций</a:t>
            </a:r>
            <a:endParaRPr b="0" lang="en-US" sz="23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Применяется ко всем педагогическим работникам  (кроме ППС) организаций, осуществляющих образовательную деятельность, замещающим должности, поименованные в Номенклатуре должностей (утв.пост.Правительства РФ от 8 августа 2013 г. № 678),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 том числе по совместительству в той же или иной организации, а также путем совмещения должностей наряду с работой в той же организации, определенной трудовым договором </a:t>
            </a:r>
            <a:endParaRPr b="0" lang="en-US" sz="22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60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F924F-DC84-472E-8E39-705B3FAB87B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428760" y="714240"/>
            <a:ext cx="814392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500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1500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1500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Рисунок 3" descr=""/>
          <p:cNvPicPr/>
          <p:nvPr/>
        </p:nvPicPr>
        <p:blipFill>
          <a:blip r:embed="rId1"/>
          <a:stretch/>
        </p:blipFill>
        <p:spPr>
          <a:xfrm>
            <a:off x="6715080" y="0"/>
            <a:ext cx="812880" cy="641520"/>
          </a:xfrm>
          <a:prstGeom prst="rect">
            <a:avLst/>
          </a:prstGeom>
          <a:ln w="0">
            <a:noFill/>
          </a:ln>
        </p:spPr>
      </p:pic>
      <p:sp>
        <p:nvSpPr>
          <p:cNvPr id="15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4D5F6-5006-4279-A9CF-37C3B339114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3" descr=""/>
          <p:cNvPicPr/>
          <p:nvPr/>
        </p:nvPicPr>
        <p:blipFill>
          <a:blip r:embed="rId1"/>
          <a:stretch/>
        </p:blipFill>
        <p:spPr>
          <a:xfrm>
            <a:off x="3000240" y="1785960"/>
            <a:ext cx="3517920" cy="364320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7"/>
          <p:cNvSpPr/>
          <p:nvPr/>
        </p:nvSpPr>
        <p:spPr>
          <a:xfrm>
            <a:off x="3071880" y="1857240"/>
            <a:ext cx="3357360" cy="3500640"/>
          </a:xfrm>
          <a:prstGeom prst="rect">
            <a:avLst/>
          </a:prstGeom>
          <a:solidFill>
            <a:srgbClr val="f2f2f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63" name="TextBox 3"/>
          <p:cNvSpPr/>
          <p:nvPr/>
        </p:nvSpPr>
        <p:spPr>
          <a:xfrm>
            <a:off x="928800" y="571680"/>
            <a:ext cx="735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Аттестация проводится в целях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(п.2 Порядка)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64" name="TextBox 4"/>
          <p:cNvSpPr/>
          <p:nvPr/>
        </p:nvSpPr>
        <p:spPr>
          <a:xfrm>
            <a:off x="785880" y="1643040"/>
            <a:ext cx="76438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тверждения соответствия педагогических работников занимаемым ими должностям на основе оценки их профессиональной деятельности;</a:t>
            </a: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тановления квалификационной категории (по желанию) </a:t>
            </a: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6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1CB1D-8D06-40E8-9BB9-4921D771FFE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3" descr=""/>
          <p:cNvPicPr/>
          <p:nvPr/>
        </p:nvPicPr>
        <p:blipFill>
          <a:blip r:embed="rId1"/>
          <a:stretch/>
        </p:blipFill>
        <p:spPr>
          <a:xfrm>
            <a:off x="3000240" y="1785960"/>
            <a:ext cx="3517920" cy="364320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7"/>
          <p:cNvSpPr/>
          <p:nvPr/>
        </p:nvSpPr>
        <p:spPr>
          <a:xfrm>
            <a:off x="3071880" y="1857240"/>
            <a:ext cx="3357360" cy="3500640"/>
          </a:xfrm>
          <a:prstGeom prst="rect">
            <a:avLst/>
          </a:prstGeom>
          <a:solidFill>
            <a:srgbClr val="f2f2f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68" name="TextBox 3"/>
          <p:cNvSpPr/>
          <p:nvPr/>
        </p:nvSpPr>
        <p:spPr>
          <a:xfrm>
            <a:off x="928800" y="285840"/>
            <a:ext cx="73580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Основными задачами аттестации являются:  </a:t>
            </a: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стимулирование целенаправленного, непрерывного повышения уровня квалификации;</a:t>
            </a: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определение необходимости повышения квалификации;</a:t>
            </a: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обеспечение  дифференциации размеров оплаты труда педагогических работников </a:t>
            </a: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69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5582F-5F50-448E-8384-638D71E7CA2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3" descr=""/>
          <p:cNvPicPr/>
          <p:nvPr/>
        </p:nvPicPr>
        <p:blipFill>
          <a:blip r:embed="rId1"/>
          <a:stretch/>
        </p:blipFill>
        <p:spPr>
          <a:xfrm>
            <a:off x="3000240" y="1785960"/>
            <a:ext cx="3517920" cy="364320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7"/>
          <p:cNvSpPr/>
          <p:nvPr/>
        </p:nvSpPr>
        <p:spPr>
          <a:xfrm>
            <a:off x="3071880" y="1857240"/>
            <a:ext cx="3357360" cy="3500640"/>
          </a:xfrm>
          <a:prstGeom prst="rect">
            <a:avLst/>
          </a:prstGeom>
          <a:solidFill>
            <a:srgbClr val="f2f2f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72" name="TextBox 13"/>
          <p:cNvSpPr/>
          <p:nvPr/>
        </p:nvSpPr>
        <p:spPr>
          <a:xfrm>
            <a:off x="2081160" y="200988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73" name="TextBox 14"/>
          <p:cNvSpPr/>
          <p:nvPr/>
        </p:nvSpPr>
        <p:spPr>
          <a:xfrm>
            <a:off x="500040" y="1500120"/>
            <a:ext cx="81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74" name="TextBox 5"/>
          <p:cNvSpPr/>
          <p:nvPr/>
        </p:nvSpPr>
        <p:spPr>
          <a:xfrm flipH="1">
            <a:off x="928080" y="214200"/>
            <a:ext cx="735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сновные положения порядка аттестации педагогических работников</a:t>
            </a: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75" name="Прямоугольник 6"/>
          <p:cNvSpPr/>
          <p:nvPr/>
        </p:nvSpPr>
        <p:spPr>
          <a:xfrm>
            <a:off x="785880" y="1285920"/>
            <a:ext cx="7715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ттестация с целью подтверждения соответствия работников занимаемым ими должностям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одится один раз в пять лет  аттестационными комиссиями самостоятельно формируемыми организациями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ттестация в целях установления квалификационной категории (КК):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 предусматривает установление первой или высшей КК (п. 24 Порядка)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одится по желанию педагогических работников 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ок действия  КК -  5 лет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срок действия  КК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одлению не подлежит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3" descr=""/>
          <p:cNvPicPr/>
          <p:nvPr/>
        </p:nvPicPr>
        <p:blipFill>
          <a:blip r:embed="rId1"/>
          <a:stretch/>
        </p:blipFill>
        <p:spPr>
          <a:xfrm>
            <a:off x="3000240" y="1785960"/>
            <a:ext cx="3517920" cy="364320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7"/>
          <p:cNvSpPr/>
          <p:nvPr/>
        </p:nvSpPr>
        <p:spPr>
          <a:xfrm>
            <a:off x="3071880" y="1857240"/>
            <a:ext cx="3357360" cy="3500640"/>
          </a:xfrm>
          <a:prstGeom prst="rect">
            <a:avLst/>
          </a:prstGeom>
          <a:solidFill>
            <a:srgbClr val="f2f2f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78" name="TextBox 13"/>
          <p:cNvSpPr/>
          <p:nvPr/>
        </p:nvSpPr>
        <p:spPr>
          <a:xfrm>
            <a:off x="2081160" y="200988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500040" y="1500120"/>
            <a:ext cx="81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80" name="TextBox 5"/>
          <p:cNvSpPr/>
          <p:nvPr/>
        </p:nvSpPr>
        <p:spPr>
          <a:xfrm flipH="1">
            <a:off x="928080" y="214200"/>
            <a:ext cx="7358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сновные положения порядка аттестации педагогических работников с целью подтверждения соответствия работников занимаемым ими должностям (далее – на СЗД)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81" name="Прямоугольник 6"/>
          <p:cNvSpPr/>
          <p:nvPr/>
        </p:nvSpPr>
        <p:spPr>
          <a:xfrm>
            <a:off x="785880" y="1857240"/>
            <a:ext cx="771516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К формируется из числа работников организации, в которой работает педагогический работник, представителей коллегиальных органов </a:t>
            </a:r>
            <a:endParaRPr b="0" lang="en-US" sz="26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 состав АК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в обязательном порядке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ходит представитель выборного органа первичной профсоюзной организации</a:t>
            </a:r>
            <a:endParaRPr b="0" lang="en-US" sz="26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ведение аттестации педагогических работников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осуществляется на основании представления работодателя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 аттестационную комиссию </a:t>
            </a:r>
            <a:endParaRPr b="0" lang="en-US" sz="26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3" descr=""/>
          <p:cNvPicPr/>
          <p:nvPr/>
        </p:nvPicPr>
        <p:blipFill>
          <a:blip r:embed="rId1"/>
          <a:stretch/>
        </p:blipFill>
        <p:spPr>
          <a:xfrm>
            <a:off x="3000240" y="1785960"/>
            <a:ext cx="3517920" cy="364320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7"/>
          <p:cNvSpPr/>
          <p:nvPr/>
        </p:nvSpPr>
        <p:spPr>
          <a:xfrm>
            <a:off x="3071880" y="1857240"/>
            <a:ext cx="3357360" cy="3500640"/>
          </a:xfrm>
          <a:prstGeom prst="rect">
            <a:avLst/>
          </a:prstGeom>
          <a:solidFill>
            <a:srgbClr val="f2f2f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84" name="TextBox 13"/>
          <p:cNvSpPr/>
          <p:nvPr/>
        </p:nvSpPr>
        <p:spPr>
          <a:xfrm>
            <a:off x="2081160" y="200988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85" name="TextBox 14"/>
          <p:cNvSpPr/>
          <p:nvPr/>
        </p:nvSpPr>
        <p:spPr>
          <a:xfrm>
            <a:off x="500040" y="1500120"/>
            <a:ext cx="81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86" name="TextBox 5"/>
          <p:cNvSpPr/>
          <p:nvPr/>
        </p:nvSpPr>
        <p:spPr>
          <a:xfrm flipH="1">
            <a:off x="928080" y="214200"/>
            <a:ext cx="7358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Основные положения порядка аттестации педагогических работников на СЗД</a:t>
            </a:r>
            <a:endParaRPr b="0" lang="en-US" sz="25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87" name="Прямоугольник 6"/>
          <p:cNvSpPr/>
          <p:nvPr/>
        </p:nvSpPr>
        <p:spPr>
          <a:xfrm>
            <a:off x="785880" y="1357200"/>
            <a:ext cx="7715160" cy="50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Аттестации </a:t>
            </a:r>
            <a:r>
              <a:rPr b="1" lang="ru-RU" sz="2500" spc="-1" strike="noStrike" u="sng">
                <a:solidFill>
                  <a:srgbClr val="000000"/>
                </a:solidFill>
                <a:uFillTx/>
                <a:latin typeface="Arial"/>
              </a:rPr>
              <a:t>не подлежат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(п. 22 Порядка):</a:t>
            </a:r>
            <a:endParaRPr b="0" lang="en-US" sz="25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педагогические работники, имеющие квалификационные категории</a:t>
            </a:r>
            <a:endParaRPr b="0" lang="en-US" sz="23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б) проработавшие в занимаемой должности </a:t>
            </a:r>
            <a:r>
              <a:rPr b="1" lang="ru-RU" sz="2300" spc="-1" strike="noStrike" u="sng">
                <a:solidFill>
                  <a:srgbClr val="000000"/>
                </a:solidFill>
                <a:uFillTx/>
                <a:latin typeface="Arial"/>
              </a:rPr>
              <a:t>менее двух лет в организации,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в которой проводится аттестация</a:t>
            </a:r>
            <a:endParaRPr b="0" lang="en-US" sz="23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в) беременные женщины</a:t>
            </a:r>
            <a:endParaRPr b="0" lang="en-US" sz="23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г) женщины, находящиеся в отпуске по беременности и родам</a:t>
            </a:r>
            <a:endParaRPr b="0" lang="en-US" sz="23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д) женщины, находящиеся в отпуске по уходу за ребенком до достижения им возраста трех лет;</a:t>
            </a:r>
            <a:endParaRPr b="0" lang="en-US" sz="23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е) отсутствовавшие на рабочем месте более четырех месяцев подряд в связи с заболеванием</a:t>
            </a:r>
            <a:endParaRPr b="0" lang="en-US" sz="23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3" descr=""/>
          <p:cNvPicPr/>
          <p:nvPr/>
        </p:nvPicPr>
        <p:blipFill>
          <a:blip r:embed="rId1"/>
          <a:stretch/>
        </p:blipFill>
        <p:spPr>
          <a:xfrm>
            <a:off x="3000240" y="1785960"/>
            <a:ext cx="3517920" cy="364320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7"/>
          <p:cNvSpPr/>
          <p:nvPr/>
        </p:nvSpPr>
        <p:spPr>
          <a:xfrm>
            <a:off x="3071880" y="1857240"/>
            <a:ext cx="3357360" cy="3500640"/>
          </a:xfrm>
          <a:prstGeom prst="rect">
            <a:avLst/>
          </a:prstGeom>
          <a:solidFill>
            <a:srgbClr val="f2f2f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90" name="TextBox 13"/>
          <p:cNvSpPr/>
          <p:nvPr/>
        </p:nvSpPr>
        <p:spPr>
          <a:xfrm>
            <a:off x="2081160" y="200988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91" name="TextBox 14"/>
          <p:cNvSpPr/>
          <p:nvPr/>
        </p:nvSpPr>
        <p:spPr>
          <a:xfrm>
            <a:off x="500040" y="1500120"/>
            <a:ext cx="81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92" name="TextBox 5"/>
          <p:cNvSpPr/>
          <p:nvPr/>
        </p:nvSpPr>
        <p:spPr>
          <a:xfrm flipH="1">
            <a:off x="928080" y="214200"/>
            <a:ext cx="7358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Основные положения порядка аттестации педагогических работников на СЗД</a:t>
            </a:r>
            <a:endParaRPr b="0" lang="en-US" sz="26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93" name="Прямоугольник 6"/>
          <p:cNvSpPr/>
          <p:nvPr/>
        </p:nvSpPr>
        <p:spPr>
          <a:xfrm>
            <a:off x="785880" y="1143000"/>
            <a:ext cx="77151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дагогический работник должен лично присутствовать при его аттестации на заседании аттестационной комиссии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менее чем за 30 календарных дней до дня проведения аттестации по графику работодатель знакомит педагогических работников под роспись: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распорядительным актом, содержащим список работников организации, подлежащих аттестации, график проведения аттестации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представлением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ник по желанию может представить в аттестационную комиссию организации дополнительные сведения, характеризующие его профессиональную деятельность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3" descr=""/>
          <p:cNvPicPr/>
          <p:nvPr/>
        </p:nvPicPr>
        <p:blipFill>
          <a:blip r:embed="rId1"/>
          <a:stretch/>
        </p:blipFill>
        <p:spPr>
          <a:xfrm>
            <a:off x="3000240" y="1785960"/>
            <a:ext cx="3517920" cy="364320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7"/>
          <p:cNvSpPr/>
          <p:nvPr/>
        </p:nvSpPr>
        <p:spPr>
          <a:xfrm>
            <a:off x="3071880" y="1857240"/>
            <a:ext cx="3357360" cy="3500640"/>
          </a:xfrm>
          <a:prstGeom prst="rect">
            <a:avLst/>
          </a:prstGeom>
          <a:solidFill>
            <a:srgbClr val="f2f2f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96" name="TextBox 13"/>
          <p:cNvSpPr/>
          <p:nvPr/>
        </p:nvSpPr>
        <p:spPr>
          <a:xfrm>
            <a:off x="2081160" y="200988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97" name="TextBox 14"/>
          <p:cNvSpPr/>
          <p:nvPr/>
        </p:nvSpPr>
        <p:spPr>
          <a:xfrm>
            <a:off x="500040" y="1500120"/>
            <a:ext cx="81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98" name="TextBox 5"/>
          <p:cNvSpPr/>
          <p:nvPr/>
        </p:nvSpPr>
        <p:spPr>
          <a:xfrm flipH="1">
            <a:off x="928080" y="214200"/>
            <a:ext cx="735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сновные положения порядка аттестации педагогических работников на СЗД 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99" name="Прямоугольник 6"/>
          <p:cNvSpPr/>
          <p:nvPr/>
        </p:nvSpPr>
        <p:spPr>
          <a:xfrm>
            <a:off x="785880" y="1071720"/>
            <a:ext cx="7715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результатам аттестации педагогического работника аттестационная комиссия организации принимает одно из следующих решений: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тветствует занимаемой должности (указывается должность педагогического работника)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тветствует занимаемой должности (указывается должность педагогического работника) при условии получения дополнительного профессионального образования по профилю педагогической деятельности 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соответствует занимаемой должности (указывается должность педагогического работника)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09:09:20Z</dcterms:created>
  <dc:creator>Valued Acer Customer</dc:creator>
  <dc:description/>
  <dc:language>en-US</dc:language>
  <cp:lastModifiedBy>Admin</cp:lastModifiedBy>
  <dcterms:modified xsi:type="dcterms:W3CDTF">2015-02-17T09:08:25Z</dcterms:modified>
  <cp:revision>780</cp:revision>
  <dc:subject/>
  <dc:title>Квалификационные характеристики должностей работников образования</dc:title>
</cp:coreProperties>
</file>