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DC68-6B73-48E3-AEBE-F0D4DCD93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4791-15D4-4CDF-B225-54DF30BB4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92CF-40DB-471B-B85E-D55A52C99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AE45-23EC-434B-B637-19A33DED2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DD7B-7032-4879-AB7E-E50737186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D8EC-A5C6-4189-8F39-D66C89AE9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E390-2F56-475A-A5F5-091FA01EF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130B-2B42-4185-9F6B-53918B3BB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DBAC-0F44-4873-8115-D5F80CF3C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440F-679C-454A-BC33-20DE5BBE16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2E80-4426-41EC-9E2C-5704FB27B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AEEB-6354-4C13-BE63-3A946B174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D31-3885-4119-BA36-8D56E3A0E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EEB8-E759-4D9E-936E-5D12BA0C6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B228-682C-4087-A548-EADB6CC59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50F0-01D2-4B36-BBC8-952B7DF1B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A1CF-767C-4A09-888D-13055B7C0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8844-8C84-4466-A19C-C4FDD7D86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64E7-C212-405D-8BD5-1F8C14D64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A7B6-C058-42EA-8342-36DDD2726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F18-5820-4D21-AD4A-27B92456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FD7-FD0F-4217-902A-E4BD51E0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74C-F685-4725-AE23-BB05058F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1D4-4B7F-4CDA-8A43-3BA91D6C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288-A7FB-4CC1-94AF-5DFCA853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617-94E4-45EC-9DB0-0400DE54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4A8-DE07-4E80-9E3B-100A316D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AFA-CD36-4780-A904-6C7010A4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068-D289-423C-855A-AC90E5DE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D06-B2FC-4FA8-B76D-02AE218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DBA-C873-454E-B70A-E11B4B26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6EF-9B77-4411-9D86-F69A0EFF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8140-E822-4818-880C-DA82A32A1F4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8F16-EB53-4218-B963-E2277A4DA5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flag.png"/>
          <p:cNvPicPr/>
          <p:nvPr/>
        </p:nvPicPr>
        <p:blipFill>
          <a:blip r:embed="rId1"/>
          <a:stretch/>
        </p:blipFill>
        <p:spPr>
          <a:xfrm>
            <a:off x="500040" y="1143000"/>
            <a:ext cx="8016840" cy="4741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7151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astellar"/>
              </a:rPr>
              <a:t>Порядок проведения аттестации педагогических работников организаций, осуществляющих образовательную деятельность</a:t>
            </a: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3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E065-EE04-4515-B954-160B3CDB1C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785880" y="1428840"/>
            <a:ext cx="7715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елла (п. 23).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тестационные комиссии организаций дают рекомендации работодателю о возможности назначения на соответствующие должности педагогических работников лиц, не имеющих специальной подготовки или стажа работы, установленных в разделе «Требования к квалификации» раздела «Квалификационные характеристики должностей работников образования» Единого квалификационного справочника должностей руководителей, специалистов и служащих и (или) профессиональными стандартами, но обладающих достаточным практическим опытом и компетентностью, выполняющих качественно и в полном объеме возложенные на них должностные обязанност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28800" y="42876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снования для проведения аттестации для установления квалификационных категорий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85880" y="15001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, либо направляемых педагогическими работниками в адрес аттестационной комиссии по почте письмом с уведомлением о вручении или с уведомлением в форме электронного документа </a:t>
            </a:r>
            <a:endParaRPr b="0" lang="en-US" sz="27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E38A-2694-4B50-95FC-18B35FA992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х случаях может быть отказано в приеме  заявления о прохождении аттестации для установления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14240" y="221472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еме заявления может быть отказано: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едагогический работник обращается за установлением  высшей квалификационной категор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перв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е име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высшей квалификационной категории следует  ранее чем через два года после установлени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первой либо высшей квалификационной категории следует до истечения одного года со дня принятия аттестационной комиссией решения  об отказе в их установлении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B686-6BE7-4811-B25C-090F450A668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может быть отказано в приеме заявления о прохождении аттестации для установления квалификационной категории  по причине: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85880" y="228600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чения срока действия квалификационной категории (первой или высшей) на день подачи заявления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я в отпуске по уходу за ребенком до достижения им возраста трех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ой продолжительности работы в организ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D536-CB65-4F58-B83B-821CDA9993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928800" y="4287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ы и сроки  проведения аттестации педагогических работников в течение года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85880" y="1357200"/>
            <a:ext cx="76438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кретные периоды  аттестации в течение года не установле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явление может быть пода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любое время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олжно быть рассмотрено в течение 30 календарных дней  (п. 32 Порядка)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течение этого же сро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существляется письменное уведомление педагогических работников о сроке и месте проведения их аттестации.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рок проведения аттестации для каждого  устанавливается индивидуально, составляет не более 60 календарных дней, учитывает действие ранее установленных квалификационных  категорий  до принятия решения(п. 32 Порядка)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6929-BBBD-4123-942E-03495F068B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28800" y="285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ступ к квалификационным категориям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10000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сшая кв.категория впервые может быть установлена педагогическим работникам, которые имеют 1 кв. категорию и не ранее чем через 2 года после ее установления (пункт 30 Порядка)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охождения аттестации  на 1 квалификационную категорию ограничений нет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етендующих на 1 квалификационную категорию предварительного прохождения аттестации на соответствие занимаемой должности не требуется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21F7-EB7B-452A-976B-239F922591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28800" y="285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становление квалификационных категорий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857160" y="1214280"/>
            <a:ext cx="7643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валификационные категории устанавливаются на основе результатов работы педагогических работников, указанных в пунктах 36, 37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ценка профессиональной деятельности педагогических работников в целях установления квалификационной категории осуществляется на основе результатов их работы, но при условии, что их деятельность связана с соответствующими направлениями работы (пункт 38).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AE7D-DD09-4DD1-B39D-A669E7B26F2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ормлен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57160" y="1000080"/>
            <a:ext cx="76438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оформляется протоколом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токол подписывается председателем, заместителем председателя, секретарем и членами аттестационной комиссии, принимавшими участие в голосовании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вступает в силу со дня его вынесения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онный лист Порядком аттестации не предусмотрен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526E-D86C-4097-86DD-1D8FD6C07A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92880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порядительные акты органов исполнительной власт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12142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сновании решений аттестационных комиссий о результатах аттестации педагогических работников соответствующие федеральные органы исполнительной власти или уполномоченные органы государственной власти субъектов Российской Федерации издают распорядительные акты об установлении педагогическим работникам первой или высшей квалификационной категор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 дня вынесения решения аттестационной комисси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которые размещаются на официальных сайтах указанных органов в сети «Интернет»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6D1E-9107-4126-8F3C-E3AD4261FB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йств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857160" y="857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кационные категории, установленные педагогическим работникам, сохраняются до окончания срока их действия при переходе в другую организацию, в том числе расположенную в другом субъекте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аттестации в целях установления СЗД действуют в течение 5 лет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31C3-5499-4D50-ACE2-FEE5C84B09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8" name="TextBox 5"/>
          <p:cNvSpPr/>
          <p:nvPr/>
        </p:nvSpPr>
        <p:spPr>
          <a:xfrm flipH="1">
            <a:off x="788400" y="28584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 науки РФ от 07.04.2014 № 276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785880" y="1357200"/>
            <a:ext cx="7715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рядок проведения аттестации педагогических работников опреде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ла, основные задачи и принципы проведения аттестации педагогических работников образовательных организаций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меняется ко всем педагогическим работникам  (кроме ППС) организаций, осуществляющих образовательную деятельность, замещающим должности, поименованные в Номенклатуре должностей (утв.пост.Правительства РФ от 8 августа 2013 г. № 678)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 по совместительству в той же или иной организации, а также путем совмещения должностей наряду с работой в той же организации, определенной трудовым договором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E960-D80F-49C7-A139-5B97F7FBCE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6715080" y="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E206-21F5-48DB-BAE6-FCE50B7A557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28800" y="5716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ттестация проводится в целя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п.2 Порядка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64304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верждения соответствия педагогических работников занимаемым ими должностям на основе оценки их профессиональной деятельност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я квалификационной категории (по желанию)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BC9F-CB1A-4EBA-86C4-02EE7A7B07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28800" y="285840"/>
            <a:ext cx="735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новными задачами аттестации являются: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тимулирование целенаправленного, непрерывного повышения уровн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ределение необходимост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беспечение  дифференциации размеров оплаты труда педагогических работников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9609-B85C-4BCD-A113-75D6E35BCB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785880" y="12859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с целью подтверждения соответствия работников занимаемым ими должностя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один раз в пять лет  аттестационными комиссиями самостоятельно формируемыми организациям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в целях установления квалификационной категории (КК)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усматривает установление первой или высшей КК (п. 24 Поряд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о желанию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действия  КК -  5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действия  КК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лению не подлежи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928080" y="21420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с целью подтверждения соответствия работников занимаемым ими должностям (далее – на СЗД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85880" y="1857240"/>
            <a:ext cx="7715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 формируется из числа работников организации, в которой работает педагогический работник, представителей коллегиальных органов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ав АК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обязательном поряд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ходит представитель выборного органа первичной профсоюзной организации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е аттестации педагогических работнико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уществляется на основании представления работодате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аттестационную комиссию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TextBox 5"/>
          <p:cNvSpPr/>
          <p:nvPr/>
        </p:nvSpPr>
        <p:spPr>
          <a:xfrm flipH="1">
            <a:off x="928080" y="214200"/>
            <a:ext cx="7358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785880" y="1357200"/>
            <a:ext cx="77151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е подлежат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п. 22 Порядка):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едагогические работники, имеющие квалификационные категории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проработавшие в занимаемой должности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енее двух лет в организации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которой проводится аттестация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беременные женщи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женщины, находящиеся в отпуске по беременности и рода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) женщины, находящиеся в отпуске по уходу за ребенком до достижения им возраста трех лет;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) отсутствовавшие на рабочем месте более четырех месяцев подряд в связи с заболевание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2" name="TextBox 5"/>
          <p:cNvSpPr/>
          <p:nvPr/>
        </p:nvSpPr>
        <p:spPr>
          <a:xfrm flipH="1">
            <a:off x="928080" y="21420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785880" y="114300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работник должен лично присутствовать при его аттестации на заседании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чем за 30 календарных дней до дня проведения аттестации по графику работодатель знакомит педагогических работников под роспись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спорядительным актом, содержащим список работников организации, подлежащих аттестации, график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ставление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ник по желанию может представить в аттестационную комиссию организации дополнительные сведения, характеризующие его профессиональную деятельность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928080" y="2142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785880" y="10717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аттестации педагогического работника аттестационная комиссия организации принимает одно из следующих решений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 при условии получения дополнительного профессионального образования по профилю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ответствует занимаемой должности (указывается должность педагогического работник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9:09:20Z</dcterms:created>
  <dc:creator>Valued Acer Customer</dc:creator>
  <dc:description/>
  <dc:language>en-US</dc:language>
  <cp:lastModifiedBy>Admin</cp:lastModifiedBy>
  <dcterms:modified xsi:type="dcterms:W3CDTF">2015-02-17T09:08:25Z</dcterms:modified>
  <cp:revision>780</cp:revision>
  <dc:subject/>
  <dc:title>Квалификационные характеристики должностей работников образования</dc:title>
</cp:coreProperties>
</file>